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, 1994, slide </a:t>
            </a:r>
            <a:fld id="{D03C7B3C-6488-4AE2-B207-73B535A66D1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913360" y="2887560"/>
            <a:ext cx="2333520" cy="3044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409760" y="3178080"/>
            <a:ext cx="14320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 -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geometry 20x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ports coming s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community of developers and u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,000-100,000 developers as of January 1994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zen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ory book published in April, 19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management using SN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s Pathfinder flight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%|#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ree Wish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88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tou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nteractive introduction to writing scripts for T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8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m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cl-based mail rea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8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X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nteractive GUI builder for T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8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kins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widget brow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8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others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 to PCs and Ma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: GUI build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