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, 1994, slide </a:t>
            </a:r>
            <a:fld id="{2F5CEAE2-F326-4B87-A7BB-07323018F67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AppI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Tcl_AppI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it easy to extend wish or tcl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209680"/>
            <a:ext cx="1981080" cy="365760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7920" y="23623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447920" y="32767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c/arg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47920" y="41911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u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47920" y="51055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43000" y="1828800"/>
            <a:ext cx="198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clMain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76920" y="3809880"/>
            <a:ext cx="1676520" cy="114300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724280" y="3429000"/>
            <a:ext cx="198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App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886200"/>
            <a:ext cx="2743560" cy="152640"/>
          </a:xfrm>
          <a:custGeom>
            <a:avLst/>
            <a:gdLst/>
            <a:ahLst/>
            <a:rect l="0" t="0" r="r" b="b"/>
            <a:pathLst>
              <a:path fill="none" w="7621" h="424">
                <a:moveTo>
                  <a:pt x="0" y="0"/>
                </a:moveTo>
                <a:lnTo>
                  <a:pt x="0" y="424"/>
                </a:lnTo>
                <a:lnTo>
                  <a:pt x="7621" y="42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4495680"/>
            <a:ext cx="2895840" cy="991080"/>
          </a:xfrm>
          <a:custGeom>
            <a:avLst/>
            <a:gdLst/>
            <a:ahLst/>
            <a:rect l="0" t="0" r="r" b="b"/>
            <a:pathLst>
              <a:path fill="none" w="8044" h="2753">
                <a:moveTo>
                  <a:pt x="8044" y="1271"/>
                </a:moveTo>
                <a:lnTo>
                  <a:pt x="8044" y="2753"/>
                </a:lnTo>
                <a:lnTo>
                  <a:pt x="4021" y="2753"/>
                </a:lnTo>
                <a:lnTo>
                  <a:pt x="4021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Tcl_AppInit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ersonaliz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AppInit.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kAppInit.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AppI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tcl_App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Tcl_Init(interp) == TCL_ERROR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Tcl_CreateCommand(interp, "mycmd",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        MycmdProc, (ClientData) NULL,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        (Tcl_CmdDeleteProc *) NULL);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tcl_RcFileName = "~/.myapprc";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with Tcl (and Tk?) libr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myAppInit.c -ltcl -lm -o my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-based 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its initialization procedure in you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App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Tcl_App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Tcl_Init(interp) == TCL_ERROR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Tk_Init(interp) == TCL_ERROR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if (Rdb_Init(interp) == TCL_ERROR) {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RcFileName = "~/.myyapprc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, cont'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with the package's library: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myAppInit.c librdb.a -ltk -ltcl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lX11 -lm -o my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Dynamic loading (so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