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, 1994, slide </a:t>
            </a:r>
            <a:fld id="{481FA6A4-7132-4929-A8DE-2EB8AA4F4E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1320" y="3619440"/>
            <a:ext cx="2384280" cy="169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91320" y="1486080"/>
            <a:ext cx="2384280" cy="169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0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4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5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1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6720" y="1913040"/>
            <a:ext cx="1812960" cy="565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57720"/>
            <a:ext cx="2403360" cy="565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46720" y="4503600"/>
            <a:ext cx="136512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87960" y="1773360"/>
            <a:ext cx="2212920" cy="641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087960" y="3220920"/>
            <a:ext cx="2212920" cy="641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888160" y="4651200"/>
            <a:ext cx="26128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62720" y="2217600"/>
            <a:ext cx="1365120" cy="1174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62720" y="3817800"/>
            <a:ext cx="1365120" cy="1174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46920" y="1298520"/>
            <a:ext cx="1746360" cy="2241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46920" y="3660840"/>
            <a:ext cx="1746360" cy="224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2033640"/>
            <a:ext cx="2460600" cy="93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4930920"/>
            <a:ext cx="24606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81560"/>
            <a:ext cx="2460600" cy="936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913360" y="1881360"/>
            <a:ext cx="246060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913360" y="3873600"/>
            <a:ext cx="2460600" cy="936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37360" y="3060720"/>
            <a:ext cx="21178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Any-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class, widget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anchor center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74660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86680" y="4060800"/>
            <a:ext cx="2087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98840" y="3976560"/>
            <a:ext cx="4060800" cy="1765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6240"/>
            <a:ext cx="29844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9040"/>
            <a:ext cx="32893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51120" y="4129200"/>
            <a:ext cx="40608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6240" y="1282680"/>
            <a:ext cx="1746360" cy="224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51520" y="151920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951520" y="381168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037360" y="204300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078440" y="2043000"/>
            <a:ext cx="1413000" cy="167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040" y="4208400"/>
            <a:ext cx="307800" cy="231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881840" y="4208400"/>
            <a:ext cx="365040" cy="23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6560" y="1289160"/>
            <a:ext cx="1628640" cy="2090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45080" y="1582560"/>
            <a:ext cx="1655640" cy="1362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066680" y="502920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76720" y="42670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95480" y="502920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0" y="42670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4267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5120" y="464832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464832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098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533600" y="380988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50292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91320" y="53341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0292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867280" y="42670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80988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86400" y="464832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64832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4648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327672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91520" y="342900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91120" y="32004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34290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380988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58128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91120" y="380988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14800" y="388620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88620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3809880"/>
            <a:ext cx="1066680" cy="152424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4973760"/>
                <a:tab algn="l" pos="605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740120"/>
                <a:tab algn="l" pos="582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4973760"/>
                <a:tab algn="l" pos="605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740120"/>
                <a:tab algn="l" pos="582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740120"/>
                <a:tab algn="l" pos="582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4973760"/>
                <a:tab algn="l" pos="605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19920" y="2247840"/>
            <a:ext cx="2384280" cy="1698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9920" y="4152960"/>
            <a:ext cx="2384280" cy="169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