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7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496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7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496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" descr=""/>
          <p:cNvPicPr/>
          <p:nvPr/>
        </p:nvPicPr>
        <p:blipFill>
          <a:blip r:embed="rId2"/>
          <a:stretch/>
        </p:blipFill>
        <p:spPr>
          <a:xfrm>
            <a:off x="0" y="5634000"/>
            <a:ext cx="11430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7732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2B9-E4B7-48DA-85A9-688687F31131}" type="slidenum">
              <a:rPr b="0" lang="en-US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65530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000-2003 Copyright –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760760" y="3353400"/>
            <a:ext cx="40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.390 New Enterprises, Anderson/Zo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Feedback on Competition Sec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 an ideal world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ould make one pitch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and the money would come rolling in….like an ATM machine spewing money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ideal world, you would raise money from prestigious source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who would be your partners for life….Invite you into their homes…. Offer up their daughter or son in marriage…. Name you in their will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ut lets talk reality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s are looking for an excellent investment, not a friend….You want their money more than their body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like to have advantageous investors… but you will take anybody as long as their money is green and they are not the Mafia…. Er, check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at do investors want to see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commitment. Why should they be committed if you are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have you put up yoursel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doing this full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borrowed on your house? Invested your saving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others on your tea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so shows them how much you can do on little resources. It shows them you will be equally careful with thei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vestors like to see confidence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deals “ooze” confidence. The principals are confident. The plan is confident; the company is on the move… with or without the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vestors can smell fear…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a banker asking for a crop loan…Investors want to feel that you will succeed, with or without their money… If they are the crucial element…. They want no part of the d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vestors like to be on “winning” teams…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rag at the golf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feel that they are Masters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mart, savvy busines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marter than the doofus that their old girl/boyfriend 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438280"/>
            <a:ext cx="3809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vestors hate losing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will hear about it from their friends at the golf clu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ir wives/husbands will question their compe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can’t stop thinking their old girl/boyfriends left them because they actually WERE losers-and this investment prov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at investors want… is a REASON to say yes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2880"/>
            <a:ext cx="77724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order your WINS so they are cascading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“Joe, I told you we had a proposal to make to ___; they came back last night and said that they were in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I Raise Money…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 first line up a few investors who I know will invest… or highly likely…I want them as prestigious as possible, even if the amount is small….I NEED THEM to show off to later potential investor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 T A Associates/ Tucker Anthon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. Define a list of 100 potential Investors…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Angel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Friends and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.C’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matter if you know them or not…You just want a list of PEOPLE who might invest if they were impressed with you, your plan, your tea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The Best Competition Sections…</a:t>
            </a: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d that t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ed &amp; sized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specific 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ed down into competitor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venues, market share, growth rate, how funded, distribution channel, pricing, product features, …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har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a feature matrix to compare themselves to their competitors … and had text to go with it… and showed why they’re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3. Use Connections to Get the Investor’s Atten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ew investors will take “cold calls” or unsolicited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every possible angle of how you might know somebody who knows some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umni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riends of famil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mer work colleagu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4. Then, write them a letter… asking for a meeting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doesn’t ask for money; it oozes the enthusiasm… and shows a market opportunity….and some moment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loan, I first figured that there was a need for a Trusted Third Party in the Internet….18 Million American households today are confused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at letter, oozing charisma… showing progress,  asks for a meeting…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aking the money I got from selling my bicycle and renting a garage in East Cambridge, I contacted General Electric… who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goal of the letter is to set up the first meeting…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with $4000 in invested capital, we were able to demonstrate a working prototype…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now ready to move to Stage Two… and I have brought on board, Jacqueline Welsh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momentu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lan is to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n’t show your business plan quite yet…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the letter is to prepare for the First Phone Call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you present EVEN MORE good new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 wrote you, John The Baptist...has signed on to our Advisory Board…. As you know, John won the Nobel Priz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ally doesn’t matter what you say; show moment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is pitch is aimed at angels as much as v.c.’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the business of networking… be a good networ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e that letter. Write a handwritten note at the bottom that shows you know something or someone or something… anything to get by the secretar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letter sound informal; write like you talk….show insigh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letter is you in print. You have one shot… to get them to see you…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2349360"/>
            <a:ext cx="77724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d thought I would come by and tell you where we are going and how we are attacking the market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ed to come by… and tell you why I mortgaged my house to get this starte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n’t use Guilt, Pity, or Conscience…. Use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letter shows insight; your follow up phone call shows more insight… and a chance to meet you (and your tea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you can also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t on the program at a trade show (“we have been asked to present at…”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t some PR  (“Computerworld is running…”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at else…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“advisory” board; costs you nothing but some warrants; adds cred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people who are known in the industry and who have a reputation for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retired CIO of Gillette; this doesn’t have to be a Board of Directors yet; would help if they had a Rolodex you could b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 you want their brains or their money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their money; sometimes their brains. And then, SOME of their b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ing to find Angels. Formal Angel Organizations. Informal network: lawyers, accountants, other entrepreneurs (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 money is usually cheaper than VC; it carries less restrictions. The amount of due diligence is substantially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mmon Problem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no competitor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no direct competitor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market information but no mention of specific 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big companies who are or might be competitors, but no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market siz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har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is info can be hard to get … we expect you to have to dig deep to ge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usiness Pla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eed for any that you raise money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gel investors are ex- high tech guys, they will expect a business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s know V.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your money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 Money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 money 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Money Fou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re your Angels High Net Worth Individuals? Sophisticated Investors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you are going to have problems. Give them a form to sign saying that they are both. (Net worth exceeding $1Million +).  If things go wrong, you may be su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imit to the number of people you can offer this to: Assume 99. And then check with your lawyer.  ASK if they would like to have a P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f they DO Invest, give them documentation with disclaimers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et sued. Keep them informed at least quarterly and in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ALL the money you are going to need, great. But if and when you run in to trouble, tough to get the next 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aise MONEY BEFORE YOU NEED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fidentialit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sk an angel to sign NDA; maybe he/she will; a VC will never sign, at least in the beginn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ssume that they can’t HELP but divulge details to their friends… so you are going to lose confidentiality, somewha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legal confidentiality form 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VC’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more. Demand more. Take control. Want board control. But with them, you are now taken seri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’s like to see angels in.... some validation of your pro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’ve been an angel befor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interested whe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hink the VC’s will come in on the next r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roduct has only a short time - 1 year - to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a t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 see OTHER angels who I resp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business plan is rational and well thought 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company really doesn’t need my help - or needs it very lit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 see confi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…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nd I never NEVER invest AFTER the VC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79856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something fundamentally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C has given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Sucker Round and I’m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ever want to invest if my money is to pay their old debts….I want my money for new eff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EBT Capital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Valley 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ial 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will lend when there is a serious VC involved. Not so,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t has to be rep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Term: only 60 days (equipment brid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of credit. You  pay for the standby 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: forget it; you aren’t really going to get this… unless you put up col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sset Based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/R:  Banks will do this. 80 -90%. They check which they will accept. You eat losses.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: 50% of finished goods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: 50% of price. Condisco and others will do this and take warr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ly secured lo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end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Light at the End of the Tunnel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 Sales and marketing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 4/9: Technology &amp; product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 4/16: Manufacturing, logistics, service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, 4/28: Take an entrepreneur to dinner write-up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, 5/5: Financials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, 5/14: Complete bplan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aising Money: From Angels, Devils, In Law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we’ll cover raising mone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I’ll talk about the getting the attention of an investor; Angels vs V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Mon (Apr 7) Ken will go through the ins and outs of term sheets and VC negoti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ed (Apr 9) We’ll talk about determining how much money you’ll need and what you’re company is w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Mon (Apr 14) Todd Dagres from Battery Ventures will be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e have spent half of the damn semester…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bout how to separate people from their money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written business plans, done 5 year projections, talked about the idea, the technology, forms of the deal, the term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mouthed every truism alive (“money’s not the problem”) - until we almost believe 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aising Mondy: Its hard; its demoralizing; its insulting; it has to be don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904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rawest form of selling; its selling true intangibles - ownership in a company that doesn’t really exist, for a product that hasn’t been built to a market that may not be there to a skeptical audience who has heard it all before.  Most people hate it; more actively dislike the activity; only a few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ccess or Failur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atter of inches…how do you get people to sign on the dotted line…or will they back off…how many people do you approach….what do you say to them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reasons they won’t buy… what are their questions… are you approaching the right sorts of capital….is your proposition right…does it really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0:30:19Z</dcterms:created>
  <dc:creator>ma</dc:creator>
  <dc:description/>
  <dc:language>en-US</dc:language>
  <cp:lastModifiedBy>Phil Lapsley</cp:lastModifiedBy>
  <dcterms:modified xsi:type="dcterms:W3CDTF">2003-04-02T19:41:08Z</dcterms:modified>
  <cp:revision>52</cp:revision>
  <dc:subject/>
  <dc:title>Raising Money: From Angels, Devils, In Laws</dc:title>
</cp:coreProperties>
</file>