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7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496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7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496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" descr=""/>
          <p:cNvPicPr/>
          <p:nvPr/>
        </p:nvPicPr>
        <p:blipFill>
          <a:blip r:embed="rId2"/>
          <a:stretch/>
        </p:blipFill>
        <p:spPr>
          <a:xfrm>
            <a:off x="0" y="5634000"/>
            <a:ext cx="11430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7732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F413-D34A-4031-BBBB-7D9924E49307}" type="slidenum">
              <a:rPr b="0" lang="en-US" sz="12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19320" y="655308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000-2003 Copyright – 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760760" y="3353400"/>
            <a:ext cx="40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.390 New Enterprises, Anderson/Zo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5.390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ass 4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iable/Non Viable Idea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9.Look for a product where you can identify some quantifiable number of customer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Enterprise Software that converts to different currencie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antity: 100 compani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Hispanic-fashion clothes for big and tal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0. Look for a product where the sales and promotion costs are reasonabl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Avoid packaged goods that require television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uld a Tupper-Ware model work for your produ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1. Look for a product where the buyer does not have all the power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elling to Wal-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Gross profit per cubic inch per hour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,000 SK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2. Look for a product that will be attractive to the more intelligent customer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void selling to dumb customers. There aren’t enough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new power tools based on better batter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3. Avoid products that appear to be just fads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hula hoops with memory (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et suits that can keep divers 5 degrees warmer (g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4. Avoid products/services that require a global marke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st justify your decision on the local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Export is hard, expensive, time consuming and frust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5. Avoid products that require an OEM for you to succeed, or where some big company has life-or-death control over you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Big company may say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Margin will be eaten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You need some self re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Ok if it is part, but only part, of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NET, Iri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6. Avoid products that require a change in government policy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Government mandates archival procedures… in 3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Pollution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7. Avoid products that are simply product extensions of a competitor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hey will get there before you… with a brand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Your distribution will leav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Christensen’s two types of innovation: extensions to an existing stable product that an incumbent can sell to its best customers (where you’ll lose), versus introducing some new unproven technology, and growing (where you can 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8. Avoid products where the lead time to decision making is long ( 6months +)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new accounts receivable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. At First, Don’t Worry if an Idea Is Viabl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gin to sift out viable from non viable, non feasible from fea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ee how many ideas can come out of one thought process. Example: Build a Video Game Company. Build a video game company that centers on teen age girls. Build a video game for teen age girls where the object is getting the right prom 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9. Avoid products where the justification is too sof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“Staff not hir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avings are  6 minutes per day per 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0. Avoid products where the buying decision is too diffuse, or lots of big players all have to line up and cooperat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a Hospital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banking/bill payment systems that require banks, consumers, and Visa/MC to all buy-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1. Avoid products where the market is non profit organization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Univer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2. Avoid Products where the cost justification cuts across departmental lin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ill save 5% in manufacturing, 10% in engineering, 8% in shipping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ke the equation reasonable for any department to justify on its ow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3. Select products where the benefit can be 400 – 1000% of what they are currently doing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metrics that work for the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4. Avoid Swiss Army Kniv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ve computer that also keeps track of calories and works as a comp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Product is usually not the best o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5. Pick products where a trained salesperson can get X sales/year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You want an idea that you can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$2 million /year/salesman achievable in the second or third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nough potenti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dd enough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6. Pick products where the user experience is close to his existing behavior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ook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7. Pick Products that can be part of the family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ducts to existing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Products to new types of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: New Products to New Types of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.Getting the right idea may come from wrong ideas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is looking at what makes the idea wrong….and correct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Meals Ready To Eat…. May lead to a line of camping/dry food meals using a new irradiat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3. Look for ideas that require as little capital as possible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-inefficient ideas (start an airline) are non starters. Use as little capital as possible. Or use other people’s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$1m: can probably be pulled together by an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m-$5m early stage and boutique V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5m-$20m reasonable size of first round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jor VC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ssets are liabilities; liabilities are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Find resources that can be rented, not bought.  (outsourc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4.Look for ideas that will generate some sales quickly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Long development cycles scare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Look for a family of products, the first of which can come early and help finance the lat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apan stuffs circuit boards, then builds circuit boards, then builds subsystems, then builds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ndia does data entry, the does maintenance on code, then writes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harma company takes existing drug and makes it for aerosol, then makes propri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 Look for ideas where the volume does not have to be extraordinary for the company to break even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Need 1,000,000 games to get cost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companies can live with the loss until volume is reached. Small companies can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Source @$1.75/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6. Look for products where perfect execution is not a requiremen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You won’t execute perfectly with a new company. No one w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Look for products where mediocre execution can win…at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Fed 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Christensen’s description of emerging technologies always starting rough (too rough for incumbents to embrace, thus your advantage), getting a foothold, and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ke sure you are selling to a visionary and risk-taking customer, one who will understand that the problem is with the youth of the technology, not with your company’s integ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7. Look for products/services that are egregiously profitabl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on’t worry, they won’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ig gross margins allow you to make mistakes and still mak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Yanke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8. Look for products and services where the management team does NOT have to be excellent</a:t>
            </a:r>
            <a:endParaRPr b="1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You may not really be able to recruit a super management t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est players may be on the other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You may not be at a stage where you can affor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You can and will up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3:34:01Z</dcterms:created>
  <dc:creator>Howard</dc:creator>
  <dc:description/>
  <dc:language>en-US</dc:language>
  <cp:lastModifiedBy>Ken Zolot</cp:lastModifiedBy>
  <dcterms:modified xsi:type="dcterms:W3CDTF">2003-02-15T17:34:05Z</dcterms:modified>
  <cp:revision>47</cp:revision>
  <dc:subject/>
  <dc:title>Viable/Non Viable Ideas</dc:title>
</cp:coreProperties>
</file>