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6B0F-F13D-4D00-BFDD-1BB18B5FEF1A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340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much $ does your new venture need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much is your company worth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 year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 M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&amp;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les e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t exp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... b4 ta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 search of net incom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... b4 t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K, What’s this business worth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om? For How Much?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aluation of Private Equit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rack record, no sales, no earnings, uncertain growth, no customers, product uncertainty, service uncertai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of valuation are all useful - and fla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t comes down to exit/liquidit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C wants to know when he gets money back, and how mu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depends on the stock marke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ol’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isco would buy you for $1b, fine when they’re worth several hundred bill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ital markets would happily buy over-priced stock in IPO issu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/liquidity is ultimately going to depend on public markets, or health of publicly traded compa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PO or Acquisi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PO, price has to be justified to buyers (often big fund managers), who will look at comparable companies in your industry, and several other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acquisition, price will be set by acquiring company (and possibly bankers) who are also looking at compa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mparabl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ompanies are exactly compa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mparable: v.c. chooses his ; you choose y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s are on public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, P/E, EBITDA; multiple o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expenses: legal, accounting, insur.,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mps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companies won’t div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;  great if you are buying a private company. Looks at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ly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.C. Method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ssumes negative cash flows; selling out or IPO, short holding time ( 5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ssumes worth is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f sales… a multiple of growth x EPS…a multiple of earnings… a multitude of EBITD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Rate of Return determines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et’s look at the balance shee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905120"/>
            <a:ext cx="6400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sheet doesn’t really tell us much in a small company.  It reflects some of the sources and uses of funds. It shows us debt, prepayments etc.  Balance sheets are useful if you can line a few of them up together. Is the company growing its Work in Process? Why? Long Term deb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oth questions: different sides of same coi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s little cash as you will need; you will be left with more ownership, less di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s much cash as you will need (plus a little); you will have unplanned surp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no one hits their plan with regu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lance Shee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ur. assets =$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, prop, equ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lant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 assets  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 acc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... ac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 deb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ur. liab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 Equ lo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iab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come Statements should be done for 60 months; also balance sheet…. So we can get Cash Flow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3048120"/>
            <a:ext cx="7238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 will “value the busi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h at the end of years 1,2,3,4,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much capital will be required to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C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 will have to commit to $2 Million; $1 Million right away, a second million some month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 Company will be worth  10 - 20 x Net income… in Yea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 5: Net Income = $1.3, so company is worth  $13 - $26 M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y $2 Million gets me 50% ownership, then at the end of year 5, my ownership is worth  $6.5 - $1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k, Call it $10 Mill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my $2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at pass my “hurdle rate” of 40% IR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sell it to my part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can I get some of my money back early so I have less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wo Scenarios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7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yes, at 50% ownership the IRR is 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ppose that $2 Million only bought 33% ownership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worth of the investment would be worth $4.29 - $8.58 Million; call it $6.4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66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54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7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.25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t 33% ownership; I would not do deal; at 40% I might; at 50%, I woul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 to the Numbers…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nufactur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out what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etting to Gross Profit Margin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et bill of materials for quantities of 1,000, 5,000,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$100/ea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00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$80/ea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0,00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$50/ea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\Hard Tooling? Soft Tooling? Different Production Methods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etting To Gross Margi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ab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sume that domestic production would be the norm for years 1,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estimate to outsource assembly in years 1,2 - that will lead to a ball park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rect labor hours will it take to assemble one unit at quantities of 1,0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$10/hour?   3 direct labor hours =$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nufacturing Overhead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Tricky. Tech products often now only have 5-10% labor costs.  Most models are built with mfg. overhead at 150 - 200% of direct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otal cost of running the factory; divide by the number of units; or a % of direct labor.     $60/p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 +$30 +$60 = $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ve year plans are a cute idea; one year, month to month cash forecasts are a requirement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year forecasts prove you know how to do spread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good - if silly -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s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ross Margin Determines a company’s success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is great; 90% is wonderful; 30% is tro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get to gross margin, issues about depreciation ( 3 - 5 years) and others are strait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&amp;A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rs sa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 help, office 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/postage,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roll taxes,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, utilities, de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lar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ade show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.r./advertis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iss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 to the balance sheet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is not forecasted; it is result of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/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debt:  1/2 of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ventor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Materials: a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rogress: what stage fin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? = $95/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Goods = $190/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sh Flow Analysi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sh out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sh Flow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ow - outflow =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+.0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+.0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_______________________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u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0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0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03  In this case the need for cash is positi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f you can improve your cash flow,you can decrease your cash need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yments on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s to pay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or in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R.E.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commissions based on cash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r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e Vs. buy; lease everything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. Pay higher fees for rent forgiveness in early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=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th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nd still mor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bonuses in stock not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y travel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rporate cred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low overhea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everything; consultants, lawyers, accountants; give warrants not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y headhunters; or 1/3 90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180, 1/3 27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(figure out what your investors will make on an IRR basis)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89072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y want to make 40% compounded per year…. Or that they hope to make 10X their investment in fou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do their own calculations any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come Statement, Balance Sheet, Cash Flow Statemen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and Cash Flow ar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ossible to do very well (income statement) and have a very poor cash flow statement. That is what this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ossible to do poorly… and have a poor cash flow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821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future val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5 net income = $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E=20x (find a compar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capitalization in year 5 = $1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to be discounted back to account fo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count     Valu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y &amp; i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$8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m &amp; proto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$2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ding reven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$4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ding mar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$7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$1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sk-adjusted Future Value Method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C = Most Expensive Financing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discou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iquidity, services offered, discounts proj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 will discount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less sophisticated investors: angels, private placements; value services at marke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money needs = less di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end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come Statement Basic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 Mat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100,00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 La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200,00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n. O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400,00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____________________________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oss Margin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 search of incom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Mar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        10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ofit before Sales Ex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les expenses, etc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before sales expense    $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les Exp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    2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      10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3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erating Income/loss      =     -$2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perating Incom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$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terest Exp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Income, Yr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$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 yea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Mar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4:07:12Z</dcterms:created>
  <dc:creator>ma</dc:creator>
  <dc:description/>
  <dc:language>en-US</dc:language>
  <cp:lastModifiedBy>Phil Lapsley</cp:lastModifiedBy>
  <dcterms:modified xsi:type="dcterms:W3CDTF">2003-04-09T18:11:27Z</dcterms:modified>
  <cp:revision>42</cp:revision>
  <dc:subject/>
  <dc:title>How Much $ does your new venture need? How much is your company worth?</dc:title>
</cp:coreProperties>
</file>