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CD0-DED7-46F0-9806-5388E5D05055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340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olot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dministrivia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omplete SloanSpace survey 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 Schmergel (guest speaker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vey feedback counts for class particip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no laptop use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mmar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W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lease bring one paper copy to class an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pload one electronic copy to SloanSpa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-minute question “hotline” : tonight 8pm-10pm, tomorrow 8am-9am, instant email responses, phone acces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zolot@mit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17 354 65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executive summaries will be posted on SloanSpace 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esentation Do’s and Don’t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umor or try to cut through the invisible wall, but be careful, and don’t sound like a used car salesman or try to be the VC’s “best frien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roll for all the people you b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deally, use 2 or 3 team memb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ring a half-relevant “grey-hai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’s and Don’ts continued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unsubstantia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wrong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“our drug will sail through the FDA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ight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“we’re well poised for the FDA process, as our scientists have 40 years combined experience getting drugs approved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exaggerate or use dramatic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wrong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“this market’s taking off like wildfire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ight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“Most analysts agree that the market will grow 85% per year for the next five years” (and have the sources to show thi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g about each other, but don’t use exaggerations or adjectiv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 “Now I would like to introduce our awesome CTO who’s going to rock your world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 “Now I would like to introduce our CTO, who was a Fulbright Scholar, and just sold his last company for $20 billion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’s and Don’ts continued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verlook “pre-meeting” and “post-meeting” interactions and soci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eave just because you’re at the end of the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for A/V problems, bungling something you’re trying to say, or a hostile or a dead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earse with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n’t Waste the Time of Your Audienc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umb mission statements, lectures about how we’re evolving into an information-based society, or a venting of your aspirations to contribute to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it right away: first 2 minutes ar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how Excitement but Not Hyp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advice to make no unsubstantiated claims, even about silly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conservative statements (you are building trust and believabili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alistic expectations, while dangling the possibility of a grand slam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bility to plan for contin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PowerPoint Pitch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wo slides: executive summary, ke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more slides: details and furthe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appendix: supporting research, Q&amp;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phics, charts, etc. to build credibility. Make them crisp and reflective of good news, but not flashy or over-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e believable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ight text on dark background for presentation, negative for hand-o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hand it out before you begin, don’t send it in ad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First Two Slid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your 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y we’re a compelling team, why my/our background and expertise is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the market we are going after, and this is why it’s a good/grea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the resources we have (people, technology, head-s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resources we will need (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how you’re building a company, not just a product: “category lea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fter the First Two Slid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ried-and-true stunt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447920" y="1371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2514600"/>
            <a:ext cx="243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nky Legacy st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titor 1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tito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alting and preserving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514600"/>
            <a:ext cx="2438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3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translator box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tito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tito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titor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-based ice solut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2438280"/>
            <a:ext cx="24382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enterprise-class multi-scaling ultra-cool stu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-Tem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2004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6858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1. “Box ‘em in”: </a:t>
            </a:r>
            <a:br>
              <a:rPr sz="4200"/>
            </a:b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(put everybody else in a bland category, you’re a new exciting category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ox ‘em in” example: everybody else in a has-been box, you’re the next wav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81280" y="1905120"/>
            <a:ext cx="3089160" cy="4495680"/>
            <a:chOff x="3581280" y="1905120"/>
            <a:chExt cx="3089160" cy="4495680"/>
          </a:xfrm>
        </p:grpSpPr>
        <p:sp>
          <p:nvSpPr>
            <p:cNvPr id="85" name=""/>
            <p:cNvSpPr/>
            <p:nvPr/>
          </p:nvSpPr>
          <p:spPr>
            <a:xfrm>
              <a:off x="3581280" y="1905120"/>
              <a:ext cx="3089160" cy="4495680"/>
            </a:xfrm>
            <a:custGeom>
              <a:avLst/>
              <a:gdLst>
                <a:gd name="textAreaLeft" fmla="*/ 0 w 3089160"/>
                <a:gd name="textAreaRight" fmla="*/ 3089520 w 308916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67080" y="4495680"/>
              <a:ext cx="2403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sting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oadcas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ching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ea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24800" y="1974960"/>
              <a:ext cx="16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t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54840" y="1905120"/>
            <a:ext cx="3089160" cy="4495680"/>
            <a:chOff x="6054840" y="1905120"/>
            <a:chExt cx="3089160" cy="4495680"/>
          </a:xfrm>
        </p:grpSpPr>
        <p:sp>
          <p:nvSpPr>
            <p:cNvPr id="89" name=""/>
            <p:cNvSpPr/>
            <p:nvPr/>
          </p:nvSpPr>
          <p:spPr>
            <a:xfrm>
              <a:off x="6054840" y="1905120"/>
              <a:ext cx="3089160" cy="4495680"/>
            </a:xfrm>
            <a:custGeom>
              <a:avLst/>
              <a:gdLst>
                <a:gd name="textAreaLeft" fmla="*/ 0 w 3089160"/>
                <a:gd name="textAreaRight" fmla="*/ 3089520 w 308916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40640" y="4618080"/>
              <a:ext cx="2403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EGEN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6760" y="1974960"/>
              <a:ext cx="23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66680" y="1905120"/>
            <a:ext cx="3089160" cy="4495680"/>
            <a:chOff x="1066680" y="1905120"/>
            <a:chExt cx="3089160" cy="4495680"/>
          </a:xfrm>
        </p:grpSpPr>
        <p:sp>
          <p:nvSpPr>
            <p:cNvPr id="93" name=""/>
            <p:cNvSpPr/>
            <p:nvPr/>
          </p:nvSpPr>
          <p:spPr>
            <a:xfrm>
              <a:off x="1066680" y="1905120"/>
              <a:ext cx="3089160" cy="4495680"/>
            </a:xfrm>
            <a:custGeom>
              <a:avLst/>
              <a:gdLst>
                <a:gd name="textAreaLeft" fmla="*/ 0 w 3089160"/>
                <a:gd name="textAreaRight" fmla="*/ 3089520 w 308916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0200" y="4495680"/>
              <a:ext cx="2403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oadban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cal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1200" y="1936800"/>
              <a:ext cx="19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ndwid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1430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Internet Infrastructure Build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5.390 Class #6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337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Presentations of Your 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14600" y="1219320"/>
            <a:ext cx="5791320" cy="3886200"/>
            <a:chOff x="2514600" y="1219320"/>
            <a:chExt cx="5791320" cy="3886200"/>
          </a:xfrm>
        </p:grpSpPr>
        <p:sp>
          <p:nvSpPr>
            <p:cNvPr id="98" name=""/>
            <p:cNvSpPr/>
            <p:nvPr/>
          </p:nvSpPr>
          <p:spPr>
            <a:xfrm>
              <a:off x="2514600" y="1219320"/>
              <a:ext cx="0" cy="388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5105520"/>
              <a:ext cx="57913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1219320"/>
              <a:ext cx="0" cy="3886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3048120"/>
              <a:ext cx="5791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067040" y="457200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oke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7040" y="12193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56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680" y="518148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1219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4038480"/>
            <a:ext cx="15264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666880"/>
            <a:ext cx="15264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28600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13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0666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You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2. The Upper Right Quadrant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18960" y="3124080"/>
            <a:ext cx="79246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en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1" lang="en-US" sz="1800" spc="-1" strike="noStrike">
                <a:solidFill>
                  <a:srgbClr val="ffff7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Linux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1" lang="en-US" sz="18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7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7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73"/>
                </a:solidFill>
                <a:latin typeface="Zapf Dingbats"/>
                <a:ea typeface="Zapf Dingbats"/>
              </a:rPr>
              <a:t>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66"/>
                </a:solidFill>
                <a:latin typeface="Wingdings"/>
                <a:ea typeface="Wingdings"/>
              </a:rPr>
              <a:t>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8760" y="854640"/>
            <a:ext cx="8985240" cy="2355840"/>
            <a:chOff x="158760" y="854640"/>
            <a:chExt cx="8985240" cy="2355840"/>
          </a:xfrm>
        </p:grpSpPr>
        <p:sp>
          <p:nvSpPr>
            <p:cNvPr id="121" name=""/>
            <p:cNvSpPr/>
            <p:nvPr/>
          </p:nvSpPr>
          <p:spPr>
            <a:xfrm>
              <a:off x="158760" y="3047760"/>
              <a:ext cx="898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740200">
              <a:off x="417960" y="19011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age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740200">
              <a:off x="1409040" y="190224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/per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740200">
              <a:off x="2511720" y="19011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sy upgr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740200">
              <a:off x="3883680" y="180252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740200">
              <a:off x="3426120" y="19011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. den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740200">
              <a:off x="5026680" y="190224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t-plugg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740200">
              <a:off x="5939640" y="190224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740200">
              <a:off x="6819840" y="1901880"/>
              <a:ext cx="23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3. The Features Checklist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et Into Tactics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way. Show predilection for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list of prospects, or early adop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familiarity with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taking steps to protect technology “secret sauce”, discuss patents/barri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ensible,sustain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ave Detailed Financ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523880"/>
            <a:ext cx="7543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Busin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st of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 comparables with other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how a Schedu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milestones you’ve already reached, and those you’ll need to hit (show awareness of an action plan and schedule);. Risks. Dependencies (good and bad);  Insourcing/outsour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if you have a track record of delivering complex projects on time and on budge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how Capitalization Plan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money one yea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monthly burn rates, major capital equipment, milestones.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ound One: $950,000,Burn rate: $80,000 per month for 10 months, finish the product and launch first beta tes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ound Two: Product proven, x beta customers converted, raise $5m to finance the roll-out, sales will kick in during month x, run-rate will be 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ound Three (IPO?): Sales will be at $x, having grown x% over the past x quarters, forward year projected sales of x. Company will sell 20% at a market cap of ..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ssume Some Negoti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hung up in this first meeting on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 easy to do business with; but not pusho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ask for too much “advice”; show that you know what you are doing…. and why you are do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certain things quiet… f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NDA’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VC’s won’t sig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what you rev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the VC’s where are they conflicted... or might be confli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VC present his company. Ask for references of companies he has worked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sk to se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C’s track record… how many funds… which investments… how many winners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 limiteds (the source of VC’s 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d this particular partner originate…sit on the board of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rtner/associate will devot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VC bring besides money… what other relationship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s a VC Might Say “Maybe”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is to my friend at [xyz fund] so we can co-inv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fetch: “come back when you have [xyz]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don’t confuse this with legitimate “due diligence”, which any interested VC will need to 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Business Plan Presentation Style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46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you’re busy preparing a written plan, sooner or later you are going to have to pitch your business to somebody…. and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or is going to be very interested in your presentation style. It is a good indication of how well you will play in front of customers, future investors/analys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end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Audienc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’re going to focus on an inves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’ll use this same pitch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y hires/co-found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reditors/suppl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ssible partner compani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arly customer prospec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sits to Sloan once you’ve made it!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We’re Going to Talk Abou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ynamics and “performance” techniq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werPoint presentation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oals of Presenting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team (it’s a winning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business proposition look fav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oubt/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logic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“on stage”: show teamwork, urgency, charisma, generate excitement (everybody wants to be part of the next hot it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st Battles Are Won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 the armies take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likely that your job is not to convince them of the viability of your business idea/team/market, but rather to reinforce a hunch they already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ming in cold, be conscious of interactions before the meeting be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they know about you before your arrival: what holes in the story are they looking to see if you can f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now Who’s in the Room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underestimate a so-called “junior” member of the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roles for others in the ro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is your advocate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is going to do the checking-up on you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wants to take you under his/her wing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is going to object just to sound opinionated, and who has a real objection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might have a similar deal brewing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got burned on something similar a few years ago?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has good relevant experience in your field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Dynamics in the Room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lk is your sales presentation in real time (they are looking to see how well you s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your audience has read your plan (or whatever you submitted in advance), but not all of them have read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questions and discuss before ask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One question you might have…. is how quickly is the Linux market grow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1:26:57Z</dcterms:created>
  <dc:creator>Ken Zolot</dc:creator>
  <dc:description/>
  <dc:language>en-US</dc:language>
  <cp:lastModifiedBy>Phil Lapsley</cp:lastModifiedBy>
  <dcterms:modified xsi:type="dcterms:W3CDTF">2003-02-26T00:57:32Z</dcterms:modified>
  <cp:revision>441</cp:revision>
  <dc:subject/>
  <dc:title>PowerPoint Presentation</dc:title>
</cp:coreProperties>
</file>