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932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932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020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4732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496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932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4732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496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9320" y="2282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932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020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" descr=""/>
          <p:cNvPicPr/>
          <p:nvPr/>
        </p:nvPicPr>
        <p:blipFill>
          <a:blip r:embed="rId2"/>
          <a:stretch/>
        </p:blipFill>
        <p:spPr>
          <a:xfrm>
            <a:off x="0" y="5634000"/>
            <a:ext cx="11430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077320" y="6553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FCCF-E76F-48E5-ACB4-13408A19E589}" type="slidenum">
              <a:rPr b="0" lang="en-US" sz="12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19320" y="655308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2000-2003 Copyright – 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-1760760" y="3353400"/>
            <a:ext cx="40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.390 New Enterprises, Anderson/Zo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5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5.390 Class 12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oduct Lifecycles and Roadmap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re you relying on suppliers?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7467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s using the Intel chip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built for Office 98, then Office 2000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hat extent can those suppliers harm you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f they are late?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f they don’t provide some feature you are counting on?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f they decide to bundle your feature into their product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your version 2 include your own version of things that you’re today buying from supplier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uppliers’ Roadmap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ajor vendors of key infrastructure pieces (Intel, Microsoft) have elaborate roadmap plans and partner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partners get early access under nondisclosure to design specs of next generation chi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wants their chips to arrive with a full set of supporting tools/applications avail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ing on how quickly customers will switch from Windows 98 to Win 2000 or Win XP. How quickly will MSFT drop support for Win 98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 compati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xample..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520" y="91440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aded architecture computer server built on an Intel chip running the Linux operating system. What’s version 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 blade that runs the Intel Pentium 5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 “lite” frame with fewer blades, entry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ternational power cord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nhancements that allow more frames to be configured side by side together, better redundancy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ilitary spec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oftware modifications to permit blades to run Microsoft Windows server operating system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nhanced “phone home” maintenance and remote monitor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ifferent voltage for phone compani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arallel Track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c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2 bi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64 bi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Hat 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own phone-hom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nhancing a flawed product design?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to the ice indust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improvements to cutting tools, better shaped blocks, made better insulated tru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any of their “product roadmaps” involve a plan to migrate customers to electric refrige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take advantage of your competitor being locked onto a loosing roadm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he Xbox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vs S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dominant position in one platform to move sideways in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nowing when the time is righ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ing/revising the product needs to be timed with the markets read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box: “Video games were crossing the chasm between the addicts and the mainstrea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echnology or Marketing Change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15235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duct extensions are more a matter of marketing, and don’t require substantial rev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rug company renaming and rebranding a drug (sometimes to market responses to the drug that were at first dismissed as side-effects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Benedryl antihistamine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 “may cause drowsiness” 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cedrin PM “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may cause dry mouth/throat”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arafem/Prozac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packaging a consumer item to make it appeal to other nationalities/demographic groups.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o you know how long it takes?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timeline and associated budget showing each st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dea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greement on featur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ull design spec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arly prototyp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lpha test (product to be used by your own staff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eta test (with key friendly customers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neral availabilit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don’t forget all the marketing steps: brochures, press-releases, trade shows, sales training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imeline, continued...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sources are available for each of those stages (for example, customer service teams, spare parts depot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r engineers working on stabilizing the existing product, or building the new one? Do you need more than one te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oduct vs Company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lan should convey that you’re not a “one-idea” trick, and that you understand how to build a real business around a product fam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ant to join/ invest in a company, not a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a path from being a tiny company to being a huge comp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1676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he End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It’s not always about expanding a good produc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on, investors will be looking for your ability to see product variations, options, in case your original plans don’t pan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our three elements of a good startup: team, market, and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is probably the least reliab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t may not work, and might be lat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ustomers might not want i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 competitor might come out with something simila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that you have a competent team that understands its market, and knows how to put together a technology plan that can adapt to future twists in the r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xplosive growth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be believable: not “well sell a million of these on the day we incorporat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the product isn’t quite ready on day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’s where/how we will sell our first 5, these are the features the product will have, these are the customer demands, etc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3 months, when we’re selling tens, the product/customer will look like this.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6 months, when we’re selling hundreds, the product/customer will look like this.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he Beachhead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on your initial su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e how competitors are going to respond to your su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e how the expanding customer base is going to want to use your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hen to release the product?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 early? capture market share, become known as the category leader, work out the bugs l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 later? as a startup, you only get one chance to make a first impression. Don’t blow it by releasing a crappy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your buyer and Moore’s categories of “early adopter” vs. mainstr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ding companies rarely have the best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hen does version 2 come out?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want to do lots of incremental releases with minor enhancemen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wait to do a big splash and offer across-the-board improv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uilding on the produc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120" y="1676520"/>
            <a:ext cx="6705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: add more features for the existing user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al: expand the design so that a new groups of users will want the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: make it more rugged, pl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up/down the value ch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ap started in partnership with Levi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icrosoft started in partnership with IBM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Feature-release strategy as be part of the business model</a:t>
            </a:r>
            <a:endParaRPr b="1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limited-functionality early version, keep selling incremental improv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to the famous Gillette mode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rove blades periodical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very couple of years you can get away with changing the whole handle design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0:28:46Z</dcterms:created>
  <dc:creator>Ken Zolot</dc:creator>
  <dc:description/>
  <dc:language>en-US</dc:language>
  <cp:lastModifiedBy>Ken Zolot</cp:lastModifiedBy>
  <dcterms:modified xsi:type="dcterms:W3CDTF">2003-03-17T13:58:21Z</dcterms:modified>
  <cp:revision>190</cp:revision>
  <dc:subject/>
  <dc:title>Product Families and Roadmaps</dc:title>
</cp:coreProperties>
</file>