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76F3-6FB7-4217-8EE3-5A5EA329C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020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732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496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732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496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020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" descr=""/>
          <p:cNvPicPr/>
          <p:nvPr/>
        </p:nvPicPr>
        <p:blipFill>
          <a:blip r:embed="rId2"/>
          <a:stretch/>
        </p:blipFill>
        <p:spPr>
          <a:xfrm>
            <a:off x="0" y="5634000"/>
            <a:ext cx="11430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077320" y="6553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1AEC-FD47-48C1-977A-68E6196DDEC8}" type="slidenum">
              <a:rPr b="0" lang="en-US" sz="12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19320" y="655308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2000-2003 Copyright – 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1760760" y="3350160"/>
            <a:ext cx="40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.390 New Enterprises, Anderson/Zo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cap of Upcoming Assignment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Friday, Feb 7, 8 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ubmit (by uploading two files to SloanSpace, or emailing them to plapsley@sloan.mit.edu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le 1 - one-page business idea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le 2 - one/two paragraph personal bio &amp; photo   </a:t>
            </a:r>
            <a:br>
              <a:rPr sz="2000"/>
            </a:b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ue, Feb 11, 8 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ave read and voted on one-page business ideas (vote via SloanSpac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: pick your 3 favorite p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Wed, Feb 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will announce winners and form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long Comes Electricity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rove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all new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rand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tablished custom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efender’s Response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service to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 up R&amp;D, new blades and in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o easy to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w it all away and embrace something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“are we in the business of selling ice, or are we in the business of keeping people’s food col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ell Run Companies Have Invested Capital…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to disruptive technologies means writing off invested ca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….Su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….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esis: Good Companie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un Away from Disruptive Technologi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run companies are Financially Driven.. And are expected to make earnings and sales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ruptive Technologies ruin income statements and balance sheets – in the short r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hristense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it that companies can seem to be at the top of their game, the suddenly fall off the clif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ause is good manageme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wo Types of Innovatio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a company to provide better service to their best customers (favors incumb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elecom from analog to digita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o the market something that’s simpler and not as good as what was historically available (favors attack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isco's router vs. Lucent's circuit switche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ake root in a less demanding market, improv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hristensen’s Framework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447920" y="3504960"/>
            <a:ext cx="7010280" cy="1143000"/>
          </a:xfrm>
          <a:prstGeom prst="line">
            <a:avLst/>
          </a:prstGeom>
          <a:ln w="93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05120" y="1447920"/>
            <a:ext cx="5562360" cy="4419360"/>
          </a:xfrm>
          <a:prstGeom prst="line">
            <a:avLst/>
          </a:prstGeom>
          <a:ln w="9360">
            <a:solidFill>
              <a:srgbClr val="0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9356000">
            <a:off x="1351440" y="4828320"/>
            <a:ext cx="21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1079800">
            <a:off x="3963600" y="388620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40"/>
                </a:solidFill>
                <a:latin typeface="Arial"/>
              </a:rPr>
              <a:t>acceptable to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7440" y="533412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standard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vors vertica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8400" y="2743200"/>
            <a:ext cx="250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ndards --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vors mod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Utterback’s S Curve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981080" y="1981080"/>
            <a:ext cx="0" cy="267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1163520"/>
            <a:ext cx="358128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 increasing then decli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&amp;D productivity within a given physical “architectur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bulbs, disk drives, automobiles, even pharmaceut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rives the dynamic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18680" y="2286000"/>
            <a:ext cx="6390000" cy="2664360"/>
            <a:chOff x="418680" y="2286000"/>
            <a:chExt cx="6390000" cy="2664360"/>
          </a:xfrm>
        </p:grpSpPr>
        <p:sp>
          <p:nvSpPr>
            <p:cNvPr id="92" name=""/>
            <p:cNvSpPr/>
            <p:nvPr/>
          </p:nvSpPr>
          <p:spPr>
            <a:xfrm>
              <a:off x="418680" y="2368800"/>
              <a:ext cx="3187800" cy="227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20880" y="2370240"/>
              <a:ext cx="3187800" cy="227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5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19240" y="2286000"/>
              <a:ext cx="3263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19240" y="4648320"/>
              <a:ext cx="326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08280" y="4648320"/>
              <a:ext cx="1976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mulative R&amp;D Eff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2720" y="2387880"/>
              <a:ext cx="11826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802960" y="193032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at Drives the Dynami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of S-curves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arly returns are small and filled with failures, dead ends, and competing versions.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ominant design, process innov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&amp;D can be productive -- both focused and with few physical barrie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au (diminishing return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 “natural limits” are approached, progress  becomes more expensiv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isruptive Technologies Seen As One S-curve After Another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2438280"/>
            <a:ext cx="0" cy="3581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6019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720" y="3048120"/>
            <a:ext cx="134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04800" y="6094440"/>
            <a:ext cx="66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286000"/>
            <a:ext cx="350460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6080" y="2516040"/>
            <a:ext cx="350460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88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886"/>
              </a:path>
            </a:pathLst>
          </a:custGeom>
          <a:noFill/>
          <a:ln cap="rnd" w="12600">
            <a:solidFill>
              <a:srgbClr val="8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379440"/>
            <a:ext cx="350460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7680" y="609480"/>
            <a:ext cx="350460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88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886"/>
              </a:path>
            </a:pathLst>
          </a:cu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809880"/>
            <a:ext cx="42670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S-curve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creative destru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2819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cc"/>
                </a:solidFill>
                <a:latin typeface="Arial"/>
              </a:rPr>
              <a:t>television</a:t>
            </a:r>
            <a:r>
              <a:rPr b="1" i="1" lang="en-US" sz="3600" spc="-1" strike="noStrike">
                <a:solidFill>
                  <a:srgbClr val="020202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55627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800040"/>
                </a:solidFill>
                <a:latin typeface="Arial"/>
              </a:rPr>
              <a:t>radio</a:t>
            </a:r>
            <a:r>
              <a:rPr b="1" i="1" lang="en-US" sz="3600" spc="-1" strike="noStrike">
                <a:solidFill>
                  <a:srgbClr val="020202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minder to Submit “Surveys”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each guest speaker, you will find a survey posted on Sloan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ompletion of these surveys is a key part of your class participation 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provide as much detailed feedback as possible… don’t be afraid to tell us what you like and don’t like about the spea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ominant Design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600200"/>
            <a:ext cx="792468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1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egi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on focuses around product concepts, is led by small firms and is largely explora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 is on features: profits are made through different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firms are more open to new ideas, more likely to experi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see past brand names and other “established” assets, prefer key technical merit -- value is created by genuine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557600" y="2058840"/>
            <a:ext cx="181080" cy="2617920"/>
            <a:chOff x="4557600" y="2058840"/>
            <a:chExt cx="181080" cy="2617920"/>
          </a:xfrm>
        </p:grpSpPr>
        <p:sp>
          <p:nvSpPr>
            <p:cNvPr id="120" name=""/>
            <p:cNvSpPr/>
            <p:nvPr/>
          </p:nvSpPr>
          <p:spPr>
            <a:xfrm>
              <a:off x="4557600" y="205884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57600" y="434340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Once a Dominant Design Emerges: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focuses around process, delivery,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firms are forced out: the large firms that remain are increasingly structured, hierarchic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s through product differentiation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Once a Dominant Design Emerge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firms that can exploit economies of scale and mass production, manage the process of incremental innovation, come to dominate the indu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/service more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From Utterback’s 15.365J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rom high variety, to dominant design, to incremental innovation on standardized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Manufacturing progresses from heavy reliance on skilled labor and general purpose equipment to specialized equipment tended by low-skilled 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ga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rom entrepreneurial organic firm to hierarchical mechanistic firm with defined tasks and procedures and few rewards for radical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r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- From fragmented and unstable with diverse products and rapid feedback to commodity-like with largely undifferentiated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et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rom many small firms with unique products to an oligopoly of firms with simila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oore’s Chasm:</a:t>
            </a:r>
            <a:br>
              <a:rPr sz="40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n’t confuse the “false start” s-curve for the real on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6000" y="5410080"/>
            <a:ext cx="184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start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ation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husiasm ge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ead of it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360" y="3429000"/>
            <a:ext cx="15235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7" y="11056"/>
                </a:moveTo>
                <a:arcTo wR="10800" hR="10800" stAng="81583" swAng="5318417"/>
                <a:lnTo>
                  <a:pt x="10800" y="10800"/>
                </a:lnTo>
                <a:close/>
              </a:path>
              <a:path fill="none" w="21600" h="21600">
                <a:moveTo>
                  <a:pt x="21597" y="11056"/>
                </a:moveTo>
                <a:arcTo wR="10800" hR="10800" stAng="81583" swAng="531841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296000" y="-3200400"/>
            <a:ext cx="8992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9" y="12597"/>
                </a:moveTo>
                <a:arcTo wR="10800" hR="10800" stAng="574601" swAng="4825399"/>
                <a:lnTo>
                  <a:pt x="10800" y="10800"/>
                </a:lnTo>
                <a:close/>
              </a:path>
              <a:path fill="none" w="21600" h="21600">
                <a:moveTo>
                  <a:pt x="21449" y="12597"/>
                </a:moveTo>
                <a:arcTo wR="10800" hR="10800" stAng="574601" swAng="4825399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89520" y="533520"/>
            <a:ext cx="350532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" y="8786"/>
                </a:moveTo>
                <a:arcTo wR="10800" hR="10800" stAng="-10155132" swAng="4752018"/>
                <a:lnTo>
                  <a:pt x="10800" y="10800"/>
                </a:lnTo>
                <a:close/>
              </a:path>
              <a:path fill="none" w="21600" h="21600">
                <a:moveTo>
                  <a:pt x="189" y="8786"/>
                </a:moveTo>
                <a:arcTo wR="10800" hR="10800" stAng="-10155132" swAng="4752018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9360" y="3886200"/>
            <a:ext cx="155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bble bur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2520" y="4952880"/>
            <a:ext cx="1808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l indus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o is Your Market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1295280"/>
            <a:ext cx="571500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ersonality does your buyer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ate of the industry, application are you selling t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y need a product that works without fail, or are they willing to debu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680" y="5943600"/>
            <a:ext cx="133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husia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083120"/>
            <a:ext cx="15242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7" y="11056"/>
                </a:moveTo>
                <a:arcTo wR="10800" hR="10800" stAng="81583" swAng="5318417"/>
                <a:lnTo>
                  <a:pt x="10800" y="10800"/>
                </a:lnTo>
                <a:close/>
              </a:path>
              <a:path fill="none" w="21600" h="21600">
                <a:moveTo>
                  <a:pt x="21597" y="11056"/>
                </a:moveTo>
                <a:arcTo wR="10800" hR="10800" stAng="81583" swAng="531841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-1371960" y="-2546280"/>
            <a:ext cx="12499560" cy="8229240"/>
            <a:chOff x="-1371960" y="-2546280"/>
            <a:chExt cx="12499560" cy="8229240"/>
          </a:xfrm>
        </p:grpSpPr>
        <p:sp>
          <p:nvSpPr>
            <p:cNvPr id="144" name=""/>
            <p:cNvSpPr/>
            <p:nvPr/>
          </p:nvSpPr>
          <p:spPr>
            <a:xfrm>
              <a:off x="7620120" y="228600"/>
              <a:ext cx="3507480" cy="273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88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8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1371960" y="-2546280"/>
              <a:ext cx="8991720" cy="822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8134200" y="5257800"/>
            <a:ext cx="100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ke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2000" y="5867280"/>
            <a:ext cx="177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y influencer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sk-ta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800" y="6019920"/>
            <a:ext cx="157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erv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8480" y="5715000"/>
            <a:ext cx="12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sion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840" y="6248520"/>
            <a:ext cx="136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agmat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ntrepreneurial Firms…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no installed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no earnings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ake market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ntrenched Compani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new technology…. but would prefer that it come in a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sured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ruptive Technologies come in a ru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ttackers…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 disruptive technologie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’s love disruptive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ders….. Pay LIP SERVICE to disruptive technolog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efenders Respons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udging Accep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adings/Assignment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T “SLOANSPACE” FREQUENTLY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loanspace.mit.edu/class/15.390a-new-enterpris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hange the syllabus (the one printed in the reader is already out of date). SloanSpace is the final autho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ut don’t worry -- we’ll tell you in class if we make changes to assignment due d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’re signed up for the class in SloanSpace to get class em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buy a course packet at “copy-tech” in the basement of E52 -- all cases and readings are in the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room powerpoints will be posted on Sloan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rades</a:t>
            </a:r>
            <a:br>
              <a:rPr sz="4000"/>
            </a:b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560" y="11426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Class participatio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xpect you to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ttend and be punctual to every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play a namecard in front of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ot use your laptop in class, especially when we have a guest speak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ad the assignments, study guests’ backgroun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pond to speaker surveys (on Sloan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tribute (we will cold-call yo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Written assignments (chapters of full 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Full Business Plan at end of sem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In-class exercise on last day of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5715000"/>
            <a:ext cx="7696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fellow team members will grade your contribution to the team, used to “round up” or “round down” your 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05280" y="-360"/>
            <a:ext cx="1089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orking With Us Outside Of Clas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nday, one of us will stay late aft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nth, we’ll hold a more fun version of this Q&amp;A session at “The Muddy Charles.” (March 3, April 7, May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man a “phone hotline” where one of us will be available to take calls during posted hours just before an assignment is due. We’ll post these hours/phone numbers as we approach the assig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ways respond to emails quickly, and welcom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appointments are always available: just as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isruptive Technologies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nd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echnology Adoption Cycl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opics We’ll Discus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companies have trouble embracing new technology, sometimes for good reason (Christens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ies take time to germinate: different people will buy at different phases of growth (Moore’s “chasm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echnology matures, “dominant design” elements emerge (Utterba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y Does This Matter to You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source of the attacker’s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how you, as a tiny unknown startup, can compete against giants -- and use their own might to toppl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how you’ll get customers to pay attention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nybody Want Some Ice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New England’s first great technology-based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des for cutting ice at just the right angles: blocks don’t melt as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of weather patterns and spots on the lake most likely to free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lated trucks for packing 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s and delivery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tisfied custom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23:28:58Z</dcterms:created>
  <dc:creator>Howard</dc:creator>
  <dc:description/>
  <dc:language>en-US</dc:language>
  <cp:lastModifiedBy>Ken Zolot</cp:lastModifiedBy>
  <dcterms:modified xsi:type="dcterms:W3CDTF">2003-02-10T15:07:21Z</dcterms:modified>
  <cp:revision>142</cp:revision>
  <dc:subject/>
  <dc:title>Disruptive Technologies</dc:title>
</cp:coreProperties>
</file>