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A827-613D-47A4-A66F-87F605E8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51E-3E8A-4AE9-BCC4-B167A8BE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196-ADD0-4CEA-A89F-900B613E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6FD-A4DC-4576-B193-1CEA0714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AECA-A567-4BCF-A992-CB16307F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C75D-6841-4239-83C9-E74B876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747C-5981-4905-AFF8-7396EAD1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BA53-DB5F-4032-9D75-29ACE83A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41B-E3BF-4591-B3D9-163947E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286B-68C7-4001-859C-29209D4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2F94-FB67-4FCD-A8C8-7D1DD56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D7D-A37C-48AA-9EAF-20017848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C671-BFA5-450B-A520-2B6877B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E74A-B412-4531-BFB8-D7CEB4A0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ACFA-7FD0-4357-A1C2-4839D658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3B21-2BD8-4E31-8014-54894062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9ADC-72BF-4A08-A470-92888EB7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25DD-4939-498D-A113-25F36B9E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C57-58B4-486F-8395-91B73A6F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BAC-7CBF-426F-B30E-F89ED301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393-30CE-46F7-B683-35893C15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955E-6350-4698-9E52-8B7DC4E2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9C5-7E09-456C-B797-68F0870C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E36-FD8F-44A9-AC70-464235C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5232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CD17-566E-4478-A5A0-CF91321C46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ED48-8B61-4334-868C-0122FAFE89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ircraft Performa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TFC Ground Sch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anuary 13, 20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mbing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excess power to push plane up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power drives climb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thrust drives climb ang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27600" y="2743200"/>
            <a:ext cx="431640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4267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mb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82940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way Conditions: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t run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s of 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dwind = reduced takeoff d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ilwind = increased takeoff di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 of wind in direction perpendicular to aircraft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have crosswind lim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4520" y="1106640"/>
            <a:ext cx="4735800" cy="63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177920"/>
            <a:ext cx="7086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-Sp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 – True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AS – Indicat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s1 – Stall speed in standard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x - Best Angl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y – Best Rat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a – Maneuvering speed (max deflection of controls saf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ne – Never Exce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ospheric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craft performance charts referenced to ICAO Standard Atmosp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9.92 in Hg (14.7 psi)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1 in Hg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°C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2°C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ments given for non-standard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altimeter s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imeter is corrected to “actual” altitude via altimeter settings, which are broadcasted by air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your altimeter to 29.92 “Hg and reading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ying a correction factor to the current altitude based on your altimeter s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sity Altitude (D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 corrected for variations in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air d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(mass/volume) is affected by altitude, temperature, and humid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describ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temperat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DA = lower aircraf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d lifting medium for w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stalls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ine power is reduc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d plainly, higher DA means lower density, or less air molecules to work w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itud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776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Pressure and 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meter setting is 30.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 airport at 42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9.92-30.12)*1000 = -200 ft plus 4,200 = 4000  …or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ist altimeter setting to 29.92, and find that the pressure altitude is 4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an OAT of 16C, what is Density Altitu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8892" r="25004" b="0"/>
          <a:stretch/>
        </p:blipFill>
        <p:spPr>
          <a:xfrm>
            <a:off x="4343400" y="990720"/>
            <a:ext cx="4572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craft 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site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d by aircraft as it moves through a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with square of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g created by li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at high Angle of Attack/Lower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52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066320"/>
            <a:ext cx="4081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 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 (internal combus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GA Aircra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pr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f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decreases with density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ust decreases with airspeed (propelle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pitch propellers (constant speed prop) offer better propeller efficiency over wider r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GA aircraft use fixed-pitch pr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43360" y="1371600"/>
            <a:ext cx="44006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ady Level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= Thrust * Velo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Drag * Velocity in steady f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propeller aircraft, at a given throttle setting, power approximately constant with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rust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2925720"/>
            <a:ext cx="4952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ise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160640"/>
            <a:ext cx="70866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12:00Z</dcterms:created>
  <dc:creator>JL</dc:creator>
  <dc:description/>
  <dc:language>en-US</dc:language>
  <cp:lastModifiedBy>Jonathan </cp:lastModifiedBy>
  <dcterms:modified xsi:type="dcterms:W3CDTF">2010-01-13T23:02:29Z</dcterms:modified>
  <cp:revision>4</cp:revision>
  <dc:subject/>
  <dc:title>Aircraft Performance</dc:title>
</cp:coreProperties>
</file>