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png" ContentType="image/png"/>
  <Override PartName="/ppt/media/image12.wmf" ContentType="image/x-wmf"/>
  <Override PartName="/ppt/media/image8.png" ContentType="image/png"/>
  <Override PartName="/ppt/media/image16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2.wmf" ContentType="image/x-wmf"/>
  <Override PartName="/ppt/media/image5.wmf" ContentType="image/x-wmf"/>
  <Override PartName="/ppt/media/image21.wmf" ContentType="image/x-wmf"/>
  <Override PartName="/ppt/media/image4.wmf" ContentType="image/x-wmf"/>
  <Override PartName="/ppt/media/image19.png" ContentType="image/png"/>
  <Override PartName="/ppt/media/image18.wmf" ContentType="image/x-wmf"/>
  <Override PartName="/ppt/media/image20.wmf" ContentType="image/x-wmf"/>
  <Override PartName="/ppt/media/image17.png" ContentType="image/png"/>
  <Override PartName="/ppt/media/image14.wmf" ContentType="image/x-wmf"/>
  <Override PartName="/ppt/media/image1.jpeg" ContentType="image/jpeg"/>
  <Override PartName="/ppt/media/image15.wmf" ContentType="image/x-wmf"/>
  <Override PartName="/ppt/media/image3.png" ContentType="image/png"/>
  <Override PartName="/ppt/media/image10.wmf" ContentType="image/x-wmf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571B8-E51C-4046-865D-F0501BDFB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4CEB3-1DA5-493C-9D45-7E254666F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C7986-DE93-44DD-B20E-23692334D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60DE2-A488-433D-95FB-AADCB8085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82081-0719-469D-8BE9-C29F6906B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8A993-C095-456F-AA51-7669B736C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14F75-606B-4A59-8440-07180F761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2D1ED-E03E-479F-8E02-F14698ED1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DC782-F27E-4823-AD06-1233AD856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AA42B-48E9-4B32-8DE4-EC883AFB4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6C867-6E2C-49D4-89D5-72DF1A55C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5E10A-AAD7-4633-A38D-8D176FB02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AD62E-5C92-485B-8832-253A3C786189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wmf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Basic Airplane Instruments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Jason Maloney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MITFC Ground Schoo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all 2009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Gyroscopes &amp; Precession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4810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Lucida Sans Unicode"/>
              </a:rPr>
              <a:t>Rigidity in Space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Lucida Sans Unicode"/>
              </a:rPr>
              <a:t>Precession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Lucida Sans Unicode"/>
              </a:rPr>
              <a:t>Force felt 90</a:t>
            </a:r>
            <a:r>
              <a:rPr b="0" lang="en-US" sz="2100" spc="-1" strike="noStrike">
                <a:solidFill>
                  <a:srgbClr val="ffffff"/>
                </a:solidFill>
                <a:latin typeface="Lucida Sans Unicode"/>
                <a:ea typeface="Lucida Sans Unicode"/>
              </a:rPr>
              <a:t>°</a:t>
            </a:r>
            <a:r>
              <a:rPr b="0" lang="en-US" sz="2100" spc="-1" strike="noStrike">
                <a:solidFill>
                  <a:srgbClr val="ffffff"/>
                </a:solidFill>
                <a:latin typeface="Lucida Sans Unicode"/>
              </a:rPr>
              <a:t> later in direction of rotation</a:t>
            </a:r>
            <a:endParaRPr b="0" lang="en-US" sz="21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Lucida Sans Unicode"/>
              </a:rPr>
              <a:t>Air flow from vacuum system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76" name="Text Placeholder 29" descr=""/>
          <p:cNvPicPr/>
          <p:nvPr/>
        </p:nvPicPr>
        <p:blipFill>
          <a:blip r:embed="rId2"/>
          <a:stretch/>
        </p:blipFill>
        <p:spPr>
          <a:xfrm>
            <a:off x="1276200" y="3835440"/>
            <a:ext cx="2914920" cy="287028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4724280" y="1676520"/>
            <a:ext cx="3841920" cy="41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def5fa"/>
                </a:solidFill>
                <a:latin typeface="Lucida Sans Unicode"/>
              </a:rPr>
              <a:t>Vacuum System and Instruments</a:t>
            </a:r>
            <a:endParaRPr b="1" lang="en-US" sz="37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6840" y="1481040"/>
            <a:ext cx="754380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Lucida Sans Unicode"/>
              </a:rPr>
              <a:t>Monitor vacuum pressure during flight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Lucida Sans Unicode"/>
              </a:rPr>
              <a:t>Some airplanes have back-up vacuum source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80" name="Text Placeholder 29" descr=""/>
          <p:cNvPicPr/>
          <p:nvPr/>
        </p:nvPicPr>
        <p:blipFill>
          <a:blip r:embed="rId2"/>
          <a:stretch/>
        </p:blipFill>
        <p:spPr>
          <a:xfrm>
            <a:off x="838080" y="2743200"/>
            <a:ext cx="693432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Turn &amp; Slip / Turn Coordinator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480680"/>
            <a:ext cx="6781680" cy="19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Lucida Sans Unicode"/>
              </a:rPr>
              <a:t>Principle of Precession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Lucida Sans Unicode"/>
              </a:rPr>
              <a:t>Turn coordinator shows both rate of roll and rate of turn (canted gyro)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Lucida Sans Unicode"/>
              </a:rPr>
              <a:t>Turn-and-slip only shows rate of turn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83" name="Text Placeholder 29" descr=""/>
          <p:cNvPicPr/>
          <p:nvPr/>
        </p:nvPicPr>
        <p:blipFill>
          <a:blip r:embed="rId2"/>
          <a:stretch/>
        </p:blipFill>
        <p:spPr>
          <a:xfrm>
            <a:off x="914400" y="3406680"/>
            <a:ext cx="6781680" cy="319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Turn Coordination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4810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Lucida Sans Unicode"/>
              </a:rPr>
              <a:t>“</a:t>
            </a:r>
            <a:r>
              <a:rPr b="0" lang="en-US" sz="2300" spc="-1" strike="noStrike">
                <a:solidFill>
                  <a:srgbClr val="ffffff"/>
                </a:solidFill>
                <a:latin typeface="Lucida Sans Unicode"/>
              </a:rPr>
              <a:t>Step on the ball”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Lucida Sans Unicode"/>
              </a:rPr>
              <a:t>Coordinated turns will help prevent spins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Lucida Sans Unicode"/>
              </a:rPr>
              <a:t>Standard rate turn 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Lucida Sans Unicode"/>
              </a:rPr>
              <a:t>3</a:t>
            </a:r>
            <a:r>
              <a:rPr b="0" lang="en-US" sz="2100" spc="-1" strike="noStrike">
                <a:solidFill>
                  <a:srgbClr val="ffffff"/>
                </a:solidFill>
                <a:latin typeface="Lucida Sans Unicode"/>
                <a:ea typeface="Lucida Sans Unicode"/>
              </a:rPr>
              <a:t>°</a:t>
            </a:r>
            <a:r>
              <a:rPr b="0" lang="en-US" sz="2100" spc="-1" strike="noStrike">
                <a:solidFill>
                  <a:srgbClr val="ffffff"/>
                </a:solidFill>
                <a:latin typeface="Lucida Sans Unicode"/>
              </a:rPr>
              <a:t> per second</a:t>
            </a:r>
            <a:endParaRPr b="0" lang="en-US" sz="21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Lucida Sans Unicode"/>
              </a:rPr>
              <a:t>2 minute turn</a:t>
            </a:r>
            <a:endParaRPr b="0" lang="en-US" sz="21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86" name="Text Placeholder 29" descr=""/>
          <p:cNvPicPr/>
          <p:nvPr/>
        </p:nvPicPr>
        <p:blipFill>
          <a:blip r:embed="rId2"/>
          <a:stretch/>
        </p:blipFill>
        <p:spPr>
          <a:xfrm>
            <a:off x="4734000" y="1600200"/>
            <a:ext cx="386712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Attitude Indicator (ADI)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28240" y="1481040"/>
            <a:ext cx="4267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Lucida Sans Unicode"/>
              </a:rPr>
              <a:t>Principle of Rigidity in Space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Lucida Sans Unicode"/>
              </a:rPr>
              <a:t>Instantaneous indications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Lucida Sans Unicode"/>
              </a:rPr>
              <a:t>Your aircraft rotates around the gyro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89" name="Text Placeholder 29" descr=""/>
          <p:cNvPicPr/>
          <p:nvPr/>
        </p:nvPicPr>
        <p:blipFill>
          <a:blip r:embed="rId2"/>
          <a:stretch/>
        </p:blipFill>
        <p:spPr>
          <a:xfrm>
            <a:off x="4648320" y="1606680"/>
            <a:ext cx="4038480" cy="427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Reading an Attitude Indicator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4810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Lucida Sans Unicode"/>
              </a:rPr>
              <a:t>Compare miniature airplane to artificial horizon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Lucida Sans Unicode"/>
              </a:rPr>
              <a:t>Adjust airplane to match horizon during straight-and-level flight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92" name="Text Placeholder 29" descr=""/>
          <p:cNvPicPr/>
          <p:nvPr/>
        </p:nvPicPr>
        <p:blipFill>
          <a:blip r:embed="rId2"/>
          <a:stretch/>
        </p:blipFill>
        <p:spPr>
          <a:xfrm>
            <a:off x="5092560" y="1143000"/>
            <a:ext cx="321624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def5fa"/>
                </a:solidFill>
                <a:latin typeface="Lucida Sans Unicode"/>
              </a:rPr>
              <a:t>Directional Gyro (DG)</a:t>
            </a:r>
            <a:br>
              <a:rPr sz="3700"/>
            </a:br>
            <a:r>
              <a:rPr b="1" lang="en-US" sz="3700" spc="-1" strike="noStrike">
                <a:solidFill>
                  <a:srgbClr val="def5fa"/>
                </a:solidFill>
                <a:latin typeface="Lucida Sans Unicode"/>
              </a:rPr>
              <a:t>a.k.a. Heading Indicator </a:t>
            </a:r>
            <a:endParaRPr b="1" lang="en-US" sz="37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4810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Lucida Sans Unicode"/>
              </a:rPr>
              <a:t>Principle of Rigidity in Space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Lucida Sans Unicode"/>
              </a:rPr>
              <a:t>Must set the DG to a known heading before use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Lucida Sans Unicode"/>
              </a:rPr>
              <a:t>Readjust periodically due to precession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95" name="Text Placeholder 29" descr=""/>
          <p:cNvPicPr/>
          <p:nvPr/>
        </p:nvPicPr>
        <p:blipFill>
          <a:blip r:embed="rId2"/>
          <a:stretch/>
        </p:blipFill>
        <p:spPr>
          <a:xfrm>
            <a:off x="4873680" y="1481040"/>
            <a:ext cx="3587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Magnetic Compass &amp; Errors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51920" y="1066680"/>
            <a:ext cx="43434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 u="sng">
                <a:solidFill>
                  <a:srgbClr val="ffffff"/>
                </a:solidFill>
                <a:uFillTx/>
                <a:latin typeface="Lucida Sans Unicode"/>
              </a:rPr>
              <a:t>Variation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Sans Unicode"/>
              </a:rPr>
              <a:t>Magnetic vs. True North</a:t>
            </a: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Sans Unicode"/>
              </a:rPr>
              <a:t>Reference Isogonic lines</a:t>
            </a: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 u="sng">
                <a:solidFill>
                  <a:srgbClr val="ffffff"/>
                </a:solidFill>
                <a:uFillTx/>
                <a:latin typeface="Lucida Sans Unicode"/>
              </a:rPr>
              <a:t>Dip</a:t>
            </a:r>
            <a:r>
              <a:rPr b="0" lang="en-US" sz="2300" spc="-1" strike="noStrike">
                <a:solidFill>
                  <a:srgbClr val="ffffff"/>
                </a:solidFill>
                <a:latin typeface="Lucida Sans Unicode"/>
              </a:rPr>
              <a:t>: Northern Hemisphere Turning Error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8119"/>
                </a:solidFill>
                <a:latin typeface="Lucida Sans Unicode"/>
              </a:rPr>
              <a:t>U</a:t>
            </a:r>
            <a:r>
              <a:rPr b="0" lang="en-US" sz="1800" spc="-1" strike="noStrike">
                <a:solidFill>
                  <a:srgbClr val="ffffff"/>
                </a:solidFill>
                <a:latin typeface="Lucida Sans Unicode"/>
              </a:rPr>
              <a:t>ndershoot </a:t>
            </a:r>
            <a:r>
              <a:rPr b="1" lang="en-US" sz="1800" spc="-1" strike="noStrike">
                <a:solidFill>
                  <a:srgbClr val="ff8119"/>
                </a:solidFill>
                <a:latin typeface="Lucida Sans Unicode"/>
              </a:rPr>
              <a:t>N</a:t>
            </a:r>
            <a:r>
              <a:rPr b="0" lang="en-US" sz="1800" spc="-1" strike="noStrike">
                <a:solidFill>
                  <a:srgbClr val="ffffff"/>
                </a:solidFill>
                <a:latin typeface="Lucida Sans Unicode"/>
              </a:rPr>
              <a:t>orth, </a:t>
            </a:r>
            <a:r>
              <a:rPr b="1" lang="en-US" sz="1800" spc="-1" strike="noStrike">
                <a:solidFill>
                  <a:srgbClr val="ff8119"/>
                </a:solidFill>
                <a:latin typeface="Lucida Sans Unicode"/>
              </a:rPr>
              <a:t>O</a:t>
            </a:r>
            <a:r>
              <a:rPr b="0" lang="en-US" sz="1800" spc="-1" strike="noStrike">
                <a:solidFill>
                  <a:srgbClr val="ffffff"/>
                </a:solidFill>
                <a:latin typeface="Lucida Sans Unicode"/>
              </a:rPr>
              <a:t>vershoot </a:t>
            </a:r>
            <a:r>
              <a:rPr b="1" lang="en-US" sz="1800" spc="-1" strike="noStrike">
                <a:solidFill>
                  <a:srgbClr val="ff8119"/>
                </a:solidFill>
                <a:latin typeface="Lucida Sans Unicode"/>
              </a:rPr>
              <a:t>S</a:t>
            </a:r>
            <a:r>
              <a:rPr b="0" lang="en-US" sz="1800" spc="-1" strike="noStrike">
                <a:solidFill>
                  <a:srgbClr val="ffffff"/>
                </a:solidFill>
                <a:latin typeface="Lucida Sans Unicode"/>
              </a:rPr>
              <a:t>outh (</a:t>
            </a:r>
            <a:r>
              <a:rPr b="0" lang="en-US" sz="1800" spc="-1" strike="noStrike">
                <a:solidFill>
                  <a:srgbClr val="ff8119"/>
                </a:solidFill>
                <a:latin typeface="Lucida Sans Unicode"/>
              </a:rPr>
              <a:t>UNOS</a:t>
            </a:r>
            <a:r>
              <a:rPr b="0" lang="en-US" sz="1800" spc="-1" strike="noStrike">
                <a:solidFill>
                  <a:srgbClr val="ffffff"/>
                </a:solidFill>
                <a:latin typeface="Lucida Sans Unicode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Sans Unicode"/>
              </a:rPr>
              <a:t>Accurate indication at 90 &amp; 270</a:t>
            </a: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 u="sng">
                <a:solidFill>
                  <a:srgbClr val="ffffff"/>
                </a:solidFill>
                <a:uFillTx/>
                <a:latin typeface="Lucida Sans Unicode"/>
              </a:rPr>
              <a:t>Dip</a:t>
            </a:r>
            <a:r>
              <a:rPr b="0" lang="en-US" sz="2300" spc="-1" strike="noStrike">
                <a:solidFill>
                  <a:srgbClr val="ffffff"/>
                </a:solidFill>
                <a:latin typeface="Lucida Sans Unicode"/>
              </a:rPr>
              <a:t>: Acceleration Error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Sans Unicode"/>
              </a:rPr>
              <a:t>On East or West heading:</a:t>
            </a: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8119"/>
                </a:solidFill>
                <a:latin typeface="Lucida Sans Unicode"/>
              </a:rPr>
              <a:t>A</a:t>
            </a:r>
            <a:r>
              <a:rPr b="0" lang="en-US" sz="1800" spc="-1" strike="noStrike">
                <a:solidFill>
                  <a:srgbClr val="ffffff"/>
                </a:solidFill>
                <a:latin typeface="Lucida Sans Unicode"/>
              </a:rPr>
              <a:t>ccelerate </a:t>
            </a:r>
            <a:r>
              <a:rPr b="1" lang="en-US" sz="1800" spc="-1" strike="noStrike">
                <a:solidFill>
                  <a:srgbClr val="ff8119"/>
                </a:solidFill>
                <a:latin typeface="Lucida Sans Unicode"/>
              </a:rPr>
              <a:t>N</a:t>
            </a:r>
            <a:r>
              <a:rPr b="0" lang="en-US" sz="1800" spc="-1" strike="noStrike">
                <a:solidFill>
                  <a:srgbClr val="ffffff"/>
                </a:solidFill>
                <a:latin typeface="Lucida Sans Unicode"/>
              </a:rPr>
              <a:t>orth, </a:t>
            </a:r>
            <a:r>
              <a:rPr b="1" lang="en-US" sz="1800" spc="-1" strike="noStrike">
                <a:solidFill>
                  <a:srgbClr val="ff8119"/>
                </a:solidFill>
                <a:latin typeface="Lucida Sans Unicode"/>
              </a:rPr>
              <a:t>D</a:t>
            </a:r>
            <a:r>
              <a:rPr b="0" lang="en-US" sz="1800" spc="-1" strike="noStrike">
                <a:solidFill>
                  <a:srgbClr val="ffffff"/>
                </a:solidFill>
                <a:latin typeface="Lucida Sans Unicode"/>
              </a:rPr>
              <a:t>ecelerate </a:t>
            </a:r>
            <a:r>
              <a:rPr b="1" lang="en-US" sz="1800" spc="-1" strike="noStrike">
                <a:solidFill>
                  <a:srgbClr val="ff8119"/>
                </a:solidFill>
                <a:latin typeface="Lucida Sans Unicode"/>
              </a:rPr>
              <a:t>S</a:t>
            </a:r>
            <a:r>
              <a:rPr b="0" lang="en-US" sz="1800" spc="-1" strike="noStrike">
                <a:solidFill>
                  <a:srgbClr val="ffffff"/>
                </a:solidFill>
                <a:latin typeface="Lucida Sans Unicode"/>
              </a:rPr>
              <a:t>outh (</a:t>
            </a:r>
            <a:r>
              <a:rPr b="0" lang="en-US" sz="1800" spc="-1" strike="noStrike">
                <a:solidFill>
                  <a:srgbClr val="ff8119"/>
                </a:solidFill>
                <a:latin typeface="Lucida Sans Unicode"/>
              </a:rPr>
              <a:t>ANDS</a:t>
            </a:r>
            <a:r>
              <a:rPr b="0" lang="en-US" sz="1800" spc="-1" strike="noStrike">
                <a:solidFill>
                  <a:srgbClr val="ffffff"/>
                </a:solidFill>
                <a:latin typeface="Lucida Sans Unicode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 u="sng">
                <a:solidFill>
                  <a:srgbClr val="ffffff"/>
                </a:solidFill>
                <a:uFillTx/>
                <a:latin typeface="Lucida Sans Unicode"/>
              </a:rPr>
              <a:t>Deviation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Sans Unicode"/>
              </a:rPr>
              <a:t>Local magnetic fields (i.e. from radio)</a:t>
            </a: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98" name="Text Placeholder 29" descr=""/>
          <p:cNvPicPr/>
          <p:nvPr/>
        </p:nvPicPr>
        <p:blipFill>
          <a:blip r:embed="rId2"/>
          <a:stretch/>
        </p:blipFill>
        <p:spPr>
          <a:xfrm>
            <a:off x="4724280" y="1438200"/>
            <a:ext cx="3886200" cy="342576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4346640" y="4927680"/>
            <a:ext cx="4645080" cy="185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def5fa"/>
                </a:solidFill>
                <a:latin typeface="Lucida Sans Unicode"/>
              </a:rPr>
              <a:t>Pitot-Static System &amp; Instruments</a:t>
            </a:r>
            <a:endParaRPr b="1" lang="en-US" sz="37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481040"/>
            <a:ext cx="358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Lucida Sans Unicode"/>
              </a:rPr>
              <a:t>Airspeed Indicator (Pitot and Static)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Lucida Sans Unicode"/>
              </a:rPr>
              <a:t>Vertical Speed Indicator (Static)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Lucida Sans Unicode"/>
              </a:rPr>
              <a:t>Altimeter (Static)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Lucida Sans Unicode"/>
              </a:rPr>
              <a:t>Pitot Heat to prevent/melt ice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3657600" y="2486160"/>
            <a:ext cx="533412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Altimeter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76320" y="1523880"/>
            <a:ext cx="45720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9080" indent="-2890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Lucida Sans Unicode"/>
              </a:rPr>
              <a:t>Wafers sealed at Standard Pressure of 29.92” Hg</a:t>
            </a:r>
            <a:endParaRPr b="0" lang="en-US" sz="2100" spc="-1" strike="noStrike">
              <a:solidFill>
                <a:srgbClr val="ffffff"/>
              </a:solidFill>
              <a:latin typeface="Lucida Sans Unicode"/>
            </a:endParaRPr>
          </a:p>
          <a:p>
            <a:pPr marL="289080" indent="-2890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Lucida Sans Unicode"/>
              </a:rPr>
              <a:t>Adjust altimeter setting in Kollsman Window</a:t>
            </a:r>
            <a:endParaRPr b="0" lang="en-US" sz="21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746280" indent="-28908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Lucida Sans Unicode"/>
              </a:rPr>
              <a:t>1”Hg = 1,000 ft</a:t>
            </a:r>
            <a:endParaRPr b="0" lang="en-US" sz="21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746280" indent="-28908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Lucida Sans Unicode"/>
              </a:rPr>
              <a:t>Set to field elevation if no setting available</a:t>
            </a:r>
            <a:endParaRPr b="0" lang="en-US" sz="2100" spc="-1" strike="noStrike">
              <a:solidFill>
                <a:srgbClr val="ffffff"/>
              </a:solidFill>
              <a:latin typeface="Lucida Sans Unicode"/>
            </a:endParaRPr>
          </a:p>
          <a:p>
            <a:pPr marL="289080" indent="-2890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Lucida Sans Unicode"/>
              </a:rPr>
              <a:t>Types of Altitude:</a:t>
            </a:r>
            <a:endParaRPr b="0" lang="en-US" sz="21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746280" indent="-289080">
              <a:spcBef>
                <a:spcPts val="326"/>
              </a:spcBef>
              <a:buClr>
                <a:srgbClr val="2da2bf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Lucida Sans Unicode"/>
              </a:rPr>
              <a:t>Indicated Altitude</a:t>
            </a:r>
            <a:endParaRPr b="0" lang="en-US" sz="21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746280" indent="-289080">
              <a:spcBef>
                <a:spcPts val="326"/>
              </a:spcBef>
              <a:buClr>
                <a:srgbClr val="2da2bf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Lucida Sans Unicode"/>
              </a:rPr>
              <a:t>True Altitude (MSL)</a:t>
            </a:r>
            <a:endParaRPr b="0" lang="en-US" sz="21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746280" indent="-289080">
              <a:spcBef>
                <a:spcPts val="326"/>
              </a:spcBef>
              <a:buClr>
                <a:srgbClr val="2da2bf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Lucida Sans Unicode"/>
              </a:rPr>
              <a:t>Pressure Altitude</a:t>
            </a:r>
            <a:endParaRPr b="0" lang="en-US" sz="21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746280" indent="-289080">
              <a:spcBef>
                <a:spcPts val="326"/>
              </a:spcBef>
              <a:buClr>
                <a:srgbClr val="2da2bf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Lucida Sans Unicode"/>
              </a:rPr>
              <a:t>Absolute Altitude (AGL)</a:t>
            </a:r>
            <a:endParaRPr b="0" lang="en-US" sz="21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746280" indent="-289080">
              <a:spcBef>
                <a:spcPts val="326"/>
              </a:spcBef>
              <a:buClr>
                <a:srgbClr val="2da2bf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Lucida Sans Unicode"/>
              </a:rPr>
              <a:t>Density Altitude</a:t>
            </a:r>
            <a:endParaRPr b="0" lang="en-US" sz="21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54" name="Text Placeholder 29" descr=""/>
          <p:cNvPicPr/>
          <p:nvPr/>
        </p:nvPicPr>
        <p:blipFill>
          <a:blip r:embed="rId2"/>
          <a:stretch/>
        </p:blipFill>
        <p:spPr>
          <a:xfrm>
            <a:off x="4695840" y="990720"/>
            <a:ext cx="39402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Nonstandard Temp. &amp; Pressure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4810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Lucida Sans Unicode"/>
              </a:rPr>
              <a:t>“</a:t>
            </a:r>
            <a:r>
              <a:rPr b="0" lang="en-US" sz="2300" spc="-1" strike="noStrike">
                <a:solidFill>
                  <a:srgbClr val="ffffff"/>
                </a:solidFill>
                <a:latin typeface="Lucida Sans Unicode"/>
              </a:rPr>
              <a:t>High to Low or Hot to Cold, look out below!”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57" name="Text Placeholder 29" descr=""/>
          <p:cNvPicPr/>
          <p:nvPr/>
        </p:nvPicPr>
        <p:blipFill>
          <a:blip r:embed="rId2"/>
          <a:stretch/>
        </p:blipFill>
        <p:spPr>
          <a:xfrm>
            <a:off x="1066680" y="3048120"/>
            <a:ext cx="6934320" cy="34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Vertical Speed Indicator (VSI)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176120"/>
            <a:ext cx="4038480" cy="49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Lucida Sans Unicode"/>
              </a:rPr>
              <a:t>Rate of climb or descent in feet per minute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Lucida Sans Unicode"/>
              </a:rPr>
              <a:t>Static pressure differential instrument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Lucida Sans Unicode"/>
              </a:rPr>
              <a:t>Wafers at ambient pressure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Lucida Sans Unicode"/>
              </a:rPr>
              <a:t>Diaphragm exposed to ambient pressure, but with calibrated leak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Lucida Sans Unicode"/>
              </a:rPr>
              <a:t>VSI lags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Lucida Sans Unicode"/>
              </a:rPr>
              <a:t>Trend and Rate information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60" name="Text Placeholder 29" descr=""/>
          <p:cNvPicPr/>
          <p:nvPr/>
        </p:nvPicPr>
        <p:blipFill>
          <a:blip r:embed="rId2"/>
          <a:stretch/>
        </p:blipFill>
        <p:spPr>
          <a:xfrm>
            <a:off x="4648320" y="1604880"/>
            <a:ext cx="4038480" cy="42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Airspeed Indicator (ASI)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228240" y="1252440"/>
            <a:ext cx="4876920" cy="491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9080" indent="-2890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Lucida Sans Unicode"/>
              </a:rPr>
              <a:t>Dynamic and static pressure differential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  <a:p>
            <a:pPr marL="289080" indent="-2890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Lucida Sans Unicode"/>
              </a:rPr>
              <a:t>Types of Airspeed: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801720" indent="-398520">
              <a:spcBef>
                <a:spcPts val="326"/>
              </a:spcBef>
              <a:buClr>
                <a:srgbClr val="2da2bf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Lucida Sans Unicode"/>
              </a:rPr>
              <a:t>Indicated (IAS)</a:t>
            </a:r>
            <a:endParaRPr b="0" lang="en-US" sz="21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801720" indent="-398520">
              <a:spcBef>
                <a:spcPts val="326"/>
              </a:spcBef>
              <a:buClr>
                <a:srgbClr val="2da2bf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Lucida Sans Unicode"/>
              </a:rPr>
              <a:t>Calibrated (CAS)</a:t>
            </a:r>
            <a:endParaRPr b="0" lang="en-US" sz="21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801720" indent="-398520">
              <a:spcBef>
                <a:spcPts val="326"/>
              </a:spcBef>
              <a:buClr>
                <a:srgbClr val="2da2bf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Lucida Sans Unicode"/>
              </a:rPr>
              <a:t>True (TAS)</a:t>
            </a:r>
            <a:endParaRPr b="0" lang="en-US" sz="21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801720" indent="-398520">
              <a:spcBef>
                <a:spcPts val="326"/>
              </a:spcBef>
              <a:buClr>
                <a:srgbClr val="2da2bf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Lucida Sans Unicode"/>
              </a:rPr>
              <a:t>Groundspeed (GS)</a:t>
            </a:r>
            <a:endParaRPr b="0" lang="en-US" sz="2100" spc="-1" strike="noStrike">
              <a:solidFill>
                <a:srgbClr val="ffffff"/>
              </a:solidFill>
              <a:latin typeface="Lucida Sans Unicode"/>
            </a:endParaRPr>
          </a:p>
          <a:p>
            <a:pPr marL="289080" indent="-2890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Lucida Sans Unicode"/>
              </a:rPr>
              <a:t>Some V-speeds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801720" indent="-39852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Lucida Sans Unicode"/>
              </a:rPr>
              <a:t>Vso -stall w/ flaps (“dirty”)</a:t>
            </a:r>
            <a:endParaRPr b="0" lang="en-US" sz="21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801720" indent="-39852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Lucida Sans Unicode"/>
              </a:rPr>
              <a:t>Vs1-stall w/o flaps (“clean”)</a:t>
            </a:r>
            <a:endParaRPr b="0" lang="en-US" sz="21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801720" indent="-39852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Lucida Sans Unicode"/>
              </a:rPr>
              <a:t>Vfe -max flap extend</a:t>
            </a:r>
            <a:endParaRPr b="0" lang="en-US" sz="21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801720" indent="-39852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Lucida Sans Unicode"/>
              </a:rPr>
              <a:t>Vno -max structural cruise</a:t>
            </a:r>
            <a:endParaRPr b="0" lang="en-US" sz="21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801720" indent="-39852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Lucida Sans Unicode"/>
              </a:rPr>
              <a:t>Vne -never exceed</a:t>
            </a:r>
            <a:endParaRPr b="0" lang="en-US" sz="21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63" name="Text Placeholder 29" descr=""/>
          <p:cNvPicPr/>
          <p:nvPr/>
        </p:nvPicPr>
        <p:blipFill>
          <a:blip r:embed="rId2"/>
          <a:srcRect l="0" t="0" r="0" b="7621"/>
          <a:stretch/>
        </p:blipFill>
        <p:spPr>
          <a:xfrm>
            <a:off x="5029200" y="1143000"/>
            <a:ext cx="3276720" cy="27716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5181480" y="3962520"/>
            <a:ext cx="2892600" cy="267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Blocked Pitot Tube (inlet only)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4810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Lucida Sans Unicode"/>
              </a:rPr>
              <a:t>Ram air exits via drain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Lucida Sans Unicode"/>
              </a:rPr>
              <a:t>Pressure equalizes to static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Lucida Sans Unicode"/>
              </a:rPr>
              <a:t>ASI decreases to zero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876920" y="2590920"/>
            <a:ext cx="3806640" cy="27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def5fa"/>
                </a:solidFill>
                <a:latin typeface="Lucida Sans Unicode"/>
              </a:rPr>
              <a:t>Blocked Pitot System </a:t>
            </a:r>
            <a:br>
              <a:rPr sz="3700"/>
            </a:br>
            <a:r>
              <a:rPr b="1" lang="en-US" sz="3700" spc="-1" strike="noStrike">
                <a:solidFill>
                  <a:srgbClr val="def5fa"/>
                </a:solidFill>
                <a:latin typeface="Lucida Sans Unicode"/>
              </a:rPr>
              <a:t>(inlet and drain)</a:t>
            </a:r>
            <a:endParaRPr b="1" lang="en-US" sz="37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28600" y="1481040"/>
            <a:ext cx="464832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Lucida Sans Unicode"/>
              </a:rPr>
              <a:t>ASI Frozen at constant altitude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Lucida Sans Unicode"/>
              </a:rPr>
              <a:t>ASI acts as an altimeter: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Lucida Sans Unicode"/>
              </a:rPr>
              <a:t>A climb will show an increased airspeed</a:t>
            </a:r>
            <a:endParaRPr b="0" lang="en-US" sz="21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Lucida Sans Unicode"/>
              </a:rPr>
              <a:t>Descent will show decreased airspeed</a:t>
            </a:r>
            <a:endParaRPr b="0" lang="en-US" sz="21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Lucida Sans Unicode"/>
              </a:rPr>
              <a:t>Potentially very dangerous!!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Lucida Sans Unicode"/>
              </a:rPr>
              <a:t>Why?</a:t>
            </a:r>
            <a:endParaRPr b="0" lang="en-US" sz="21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Lucida Sans Unicode"/>
              </a:rPr>
              <a:t>What </a:t>
            </a:r>
            <a:r>
              <a:rPr b="0" lang="en-US" sz="2100" spc="-1" strike="noStrike" u="sng">
                <a:solidFill>
                  <a:srgbClr val="ffffff"/>
                </a:solidFill>
                <a:uFillTx/>
                <a:latin typeface="Lucida Sans Unicode"/>
              </a:rPr>
              <a:t>should</a:t>
            </a:r>
            <a:r>
              <a:rPr b="0" lang="en-US" sz="2100" spc="-1" strike="noStrike">
                <a:solidFill>
                  <a:srgbClr val="ffffff"/>
                </a:solidFill>
                <a:latin typeface="Lucida Sans Unicode"/>
              </a:rPr>
              <a:t> happen as you climb? Descend?</a:t>
            </a:r>
            <a:endParaRPr b="0" lang="en-US" sz="21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Lucida Sans Unicode"/>
              </a:rPr>
              <a:t>Can lead to stall and/or in-flight breakup</a:t>
            </a:r>
            <a:endParaRPr b="0" lang="en-US" sz="21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70" name="Text Placeholder 29" descr=""/>
          <p:cNvPicPr/>
          <p:nvPr/>
        </p:nvPicPr>
        <p:blipFill>
          <a:blip r:embed="rId2"/>
          <a:stretch/>
        </p:blipFill>
        <p:spPr>
          <a:xfrm>
            <a:off x="5295960" y="762120"/>
            <a:ext cx="369576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Blocked Static Por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4810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Lucida Sans Unicode"/>
              </a:rPr>
              <a:t>ASI continues to operate, but incorrectly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Lucida Sans Unicode"/>
              </a:rPr>
              <a:t>Behaves somewhat as an altimeter</a:t>
            </a:r>
            <a:endParaRPr b="0" lang="en-US" sz="21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Lucida Sans Unicode"/>
              </a:rPr>
              <a:t>VSI reads zero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Lucida Sans Unicode"/>
              </a:rPr>
              <a:t>Altimeter frozen at altitude where blockage occurred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Lucida Sans Unicode"/>
              </a:rPr>
              <a:t>Try alternate static source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Lucida Sans Unicode"/>
              </a:rPr>
              <a:t>Mechanical, or</a:t>
            </a:r>
            <a:endParaRPr b="0" lang="en-US" sz="21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Lucida Sans Unicode"/>
              </a:rPr>
              <a:t>Break face of VSI</a:t>
            </a:r>
            <a:endParaRPr b="0" lang="en-US" sz="21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73" name="Text Placeholder 29" descr=""/>
          <p:cNvPicPr/>
          <p:nvPr/>
        </p:nvPicPr>
        <p:blipFill>
          <a:blip r:embed="rId2"/>
          <a:stretch/>
        </p:blipFill>
        <p:spPr>
          <a:xfrm>
            <a:off x="4678200" y="1481040"/>
            <a:ext cx="39783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6T18:52:59Z</dcterms:created>
  <dc:creator>JMALONEY</dc:creator>
  <dc:description/>
  <dc:language>en-US</dc:language>
  <cp:lastModifiedBy>JMALONEY</cp:lastModifiedBy>
  <dcterms:modified xsi:type="dcterms:W3CDTF">2009-11-17T21:55:30Z</dcterms:modified>
  <cp:revision>15</cp:revision>
  <dc:subject/>
  <dc:title>Slide 1</dc:title>
</cp:coreProperties>
</file>