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gif" ContentType="image/gif"/>
  <Override PartName="/ppt/media/image8.gif" ContentType="image/gif"/>
  <Override PartName="/ppt/media/image1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.wmf" ContentType="image/x-wmf"/>
  <Override PartName="/ppt/media/image3.gif" ContentType="image/gif"/>
  <Override PartName="/ppt/media/image20.jpeg" ContentType="image/jpeg"/>
  <Override PartName="/ppt/media/image12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14.jpeg" ContentType="image/jpeg"/>
  <Override PartName="/ppt/media/image5.gif" ContentType="image/gif"/>
  <Override PartName="/ppt/media/image1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393-3394-444C-B201-5744FEB6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F2C8-AB51-4C32-B29E-470FEC60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3E1-2773-42DD-ABCD-DDA8F44E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D1CB-C7D5-471A-BBDF-996CF319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8160-976A-48E2-AC69-F9C238E3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A8FD-D613-46C9-A0C9-5EE28103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D3E9-F449-4932-9FF3-E9B0AED2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D7AE-4FD7-421C-89B7-DF84C370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75CB-DB50-4BED-9EBF-D12022C0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90C9-3207-420B-914C-FD896770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9556-9B18-4102-9806-9E7A9FE2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8D18-16CE-4CF0-A952-E90CB4CC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232B-678B-4B0B-8514-DFBFC361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D5CD-6AC2-4688-95D5-FCFFF4C5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C122-983A-4ED6-8934-4E2A1B22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5778-4447-498C-B21E-25A0EFE5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C461-8988-482B-BC4A-E20679C5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9E7-ED17-4AF6-8322-DD11CC1C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03C4-0E1A-428E-8C75-1827495A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DEB4-87CC-4071-9485-D6CF2401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9CCE-EFB6-4B2E-9C08-829E6AEC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6700-BCEC-465B-B06E-50C9211F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A333-6711-4DA0-9413-0A7D2CD6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9B6B-8C84-4F69-BAC2-E0008907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233E-D5A1-4115-A342-B4F7ADF99E9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18A1-6FF2-488C-91A4-E41547529A3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rc.nasa.gov/WWW/K-12/airplane/pitch.html" TargetMode="External"/><Relationship Id="rId2" Type="http://schemas.openxmlformats.org/officeDocument/2006/relationships/hyperlink" Target="http://www.grc.nasa.gov/WWW/K-12/airplane/roll.html" TargetMode="External"/><Relationship Id="rId3" Type="http://schemas.openxmlformats.org/officeDocument/2006/relationships/hyperlink" Target="http://www.grc.nasa.gov/WWW/K-12/airplane/yaw.html" TargetMode="External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elair.selkirk.bc.ca/aerodynamics1/Stability/Page3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tability and Flight Control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ateral St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bility about longitudinal ax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KA Roll St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influenced b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hed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eep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vs. Low W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324240" cy="3629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3048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3324240" cy="3628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creasing Lateral St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0" y="1295280"/>
            <a:ext cx="41911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hed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Dihedral effect on lateral stability"/>
          <p:cNvPicPr/>
          <p:nvPr/>
        </p:nvPicPr>
        <p:blipFill>
          <a:blip r:embed="rId2"/>
          <a:stretch/>
        </p:blipFill>
        <p:spPr>
          <a:xfrm>
            <a:off x="4724280" y="1905120"/>
            <a:ext cx="3829320" cy="4209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8600" y="1295280"/>
            <a:ext cx="41911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g Pla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51460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3048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476440" y="42195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rectional St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bility about vertical ax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luenced by size and location of vertical stabiliz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ar to weather vane or feathers on an arr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4387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l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certain angle of attack airflow cannot “stick” to top of w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ir flow separation occu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8320" y="1865160"/>
            <a:ext cx="4038480" cy="4000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l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“critical angle of attack” does not change for a given w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loss of lift when stal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ll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-22 Stall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886200" cy="3640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pi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coordinated stalls result in sp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wings are stalled, 1 wing “more” stalled than 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tating helical downward pa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y to recover from in Cessna 17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won’t have to do this during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deo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deo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deo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erodynamics of Maneuvering Fligh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mbing Fligh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irplane climbs due to inclined thrust v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Forces are still in equilibr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te at which airplane climbs determined by excess thru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ft Turning Tendenc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r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 Fa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iraling Slip Strea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yroscopic Prec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not always a left turning tend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554"/>
          <a:stretch/>
        </p:blipFill>
        <p:spPr>
          <a:xfrm>
            <a:off x="4419720" y="1447920"/>
            <a:ext cx="4572000" cy="43434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scending Fligh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irplane descends when flight path is pointed downw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Forces are still in equilibr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ree Axes of Fligh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gitudinal (gre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se to t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teral (blu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ng tip to Wing t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tical (r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 to bott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4475160" cy="3392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01000" y="3505320"/>
            <a:ext cx="457200" cy="1981080"/>
          </a:xfrm>
          <a:custGeom>
            <a:avLst/>
            <a:gdLst>
              <a:gd name="textAreaLeft" fmla="*/ 61200 w 457200"/>
              <a:gd name="textAreaRight" fmla="*/ 396000 w 45720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5334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4800600"/>
            <a:ext cx="190476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4724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5410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594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urning Fligh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rizontal component of lift turns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dder is used to maintain coord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forces are not in equilibrium, this is accelerated f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0" r="0" b="3950"/>
          <a:stretch/>
        </p:blipFill>
        <p:spPr>
          <a:xfrm>
            <a:off x="4648320" y="1935000"/>
            <a:ext cx="4038480" cy="3708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ad Fa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tio of weight supported by wings to weight of aircra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KA as G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load factor of 2, or 2 G’s means wings support twice aircraft w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ing load factor increases stall sp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0" t="0" r="0" b="5097"/>
          <a:stretch/>
        </p:blipFill>
        <p:spPr>
          <a:xfrm>
            <a:off x="5105520" y="1371600"/>
            <a:ext cx="3429000" cy="3070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715000" y="4572000"/>
                <a:ext cx="198612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I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ro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81040" y="1486080"/>
            <a:ext cx="618012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Flight Contro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71440" y="106632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Pit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about the lateral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by the ele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Ro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about the longitudinal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by the aile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Ya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about the vertical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by the ru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Computer animation of an airliner in which the wings&#10; moves up and down in response to changing the aileron angle."/>
          <p:cNvPicPr/>
          <p:nvPr/>
        </p:nvPicPr>
        <p:blipFill>
          <a:blip r:embed="rId4"/>
          <a:stretch/>
        </p:blipFill>
        <p:spPr>
          <a:xfrm>
            <a:off x="380880" y="2666880"/>
            <a:ext cx="2438640" cy="1968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Computer animation of an airliner in which the nose&#10; moves up and down in response to changing the elevator angle."/>
          <p:cNvPicPr/>
          <p:nvPr/>
        </p:nvPicPr>
        <p:blipFill>
          <a:blip r:embed="rId5"/>
          <a:stretch/>
        </p:blipFill>
        <p:spPr>
          <a:xfrm>
            <a:off x="304920" y="990720"/>
            <a:ext cx="2438280" cy="1962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Computer animation of an airliner in which the nose&#10; moves side to side in response to changing the rudder angle."/>
          <p:cNvPicPr/>
          <p:nvPr/>
        </p:nvPicPr>
        <p:blipFill>
          <a:blip r:embed="rId6"/>
          <a:stretch/>
        </p:blipFill>
        <p:spPr>
          <a:xfrm>
            <a:off x="380880" y="4299120"/>
            <a:ext cx="2438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dverse Yaw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(or why we have a Rudder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uced dra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 in lift = increase in dr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want to roll to le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ke turns to le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ft aileron goes up, right aileron goes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ght wing develops more lift, therefore more dr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Plane tries to yaw in opposite direction to ro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184560" cy="4195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ic St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ve (stab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l returns to starting position when disturb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l remains in new position when disturb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gative (unstab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l moves away from starting position when disturb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13180" r="0" b="0"/>
          <a:stretch/>
        </p:blipFill>
        <p:spPr>
          <a:xfrm>
            <a:off x="4686480" y="2592360"/>
            <a:ext cx="3848040" cy="3019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ic Stability (continued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514600" cy="1528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172200" y="4572000"/>
            <a:ext cx="2590920" cy="1574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124080" y="2895480"/>
            <a:ext cx="259092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ynamic St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cillations decrease in amplitude wit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cillations are constant in amplitude wit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cillations increase in amplitude wit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 are all types of Positive Static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Link to animation of dynamic longitudinal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0" y="1523880"/>
          <a:ext cx="4241880" cy="440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523880"/>
                    <a:ext cx="424188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ngitudinal St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bility about lateral ax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KA Pitch St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endent on location of Center of Gra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 too far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le (too s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 too far 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ll Recovery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S 39 Gripen Crash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S 39 Gripen Crash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343400" y="3581280"/>
          <a:ext cx="4495680" cy="16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581280"/>
                    <a:ext cx="449568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914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18288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1447920"/>
            <a:ext cx="1523880" cy="83808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6094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tch up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26668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tch down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48720" y="16765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 of at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21636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019920" y="1523880"/>
            <a:ext cx="1447560" cy="53352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1219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6:28:10Z</dcterms:created>
  <dc:creator>JL</dc:creator>
  <dc:description/>
  <dc:language>en-US</dc:language>
  <cp:lastModifiedBy>JL</cp:lastModifiedBy>
  <dcterms:modified xsi:type="dcterms:W3CDTF">2010-02-12T00:16:05Z</dcterms:modified>
  <cp:revision>4</cp:revision>
  <dc:subject/>
  <dc:title>Slide 1</dc:title>
</cp:coreProperties>
</file>