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10F9-48EC-416C-99BD-7470663071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8DB1-A4E7-4C9A-953E-457E58BAD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F3AB-5A00-4E6F-A011-D127368C2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0762-6219-4203-8014-ECD19FD3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1953-0A15-4348-8A80-B18D8E42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292D-6DBD-4129-ADA8-0C3DB239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27A2-1C85-4E22-97C6-4AACA6A4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18C4-EC5E-4399-A289-CA6A0CB9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05A4-369E-4E0F-97EB-0D1420C3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191A-CB03-49D1-8C9A-403A679F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6927-BA5E-4127-A1B3-165D462E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6AFA-8F71-4908-8CB1-BFF4DB7C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55C0-E304-4A16-B81E-A20D4E26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7347-E0A9-4844-91CE-58418D64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27A3-2D48-49EC-8FBF-E6C17296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5951-C9C6-4CE4-A983-E48E08CB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A14F-AEF7-4E88-A309-C9A9854D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3479-8827-4BA0-88FC-EDD3D1D2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BCCC-C876-41AC-A6F7-A4FFD9D7D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BF51-A908-45D5-8F12-CAAB6981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CDD36-9DEA-46AC-8E96-AC5AE263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88077-0BB9-4899-9B31-C4D8E533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1735D-281C-4817-B4D2-DAEA106A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1C89C-72B5-4A1F-8437-EBE4D886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465DA-8379-46FD-A5E7-48797DAA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BBF3-DC31-4FBC-A056-79DF53D1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E22D1-B2F3-42E6-B238-A3C0FEAC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569CE-F4EE-4E66-9759-1D8730FA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2472A-E644-493A-B862-68BA0E1C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40EC8-AA65-432A-B5CB-7E0B28BB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57FC0-1B47-4949-909F-9C97B07E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75943-75D9-4B5E-86B2-CC352319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3A068-27FD-4248-85D1-51BB5CDB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C7652-3062-44E5-8ED5-5D4DD5FD4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0DE96-3966-43D1-BBA1-DCC12F89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ADD32-D496-4A51-AEAA-97E17C25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BED8-0045-4CEE-9FCC-26182777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82D73-5197-4E12-88A3-854D2943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9F6B4-F1E2-4534-B0D0-9E6ADDAA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88750-B34D-4256-977D-642F55BF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81CAE-E6AC-4D93-9C13-40FACA13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86FE7-91AD-468B-823A-6781F25F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91BEA-09AB-4D4C-BC09-6550DBFF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8E327-5986-4D92-8787-C8E91C56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EAEB2-1FD1-41FE-8C48-3227F202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7501B-945E-4229-9003-BFD32DB1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8B5EE-ECE6-4305-B651-E64B4761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7246-810A-4F92-A320-957C363A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80572-F40B-479B-9F68-230C3B83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ABD7C-9E8E-4D68-9774-3B06C978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28F1D-4D24-422D-AEAE-A33FBE82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5D01A-4881-4777-9D42-18280E7C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F44E8-ECFA-4FB3-9016-4804119E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5C04C-816F-4149-82C5-102B6591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CE12F-7AC0-4360-89C5-1821F792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EB99E-5030-4243-8722-742065F0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4F4DC-FEF6-40AA-AD39-EE211CDC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826AC-6465-4777-BBEE-DB35A856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2ED0-4E32-4F3E-85BC-53F4707E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44976-ABAE-4E2F-A772-5B8CDDC3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9BCFE-89AC-4D4D-BEDB-5EEC9841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01091-0501-413B-9746-D4871608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57BAA-021C-4759-9AF5-64DD2ECB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186BB-84C0-4C20-968D-FD144649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40F5E-E091-4EE5-83BB-F8C81080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4F539-3BD7-4588-806C-FCEAE03D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E166F-D3CC-4067-B6F7-65306DAB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78079-8E0C-4623-B786-CD46D081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7013E-E001-4C4B-BAE9-2BCE0BE4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CC84-8545-48A7-AA18-B7D993E3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23F2C-330B-48EF-9C9A-A1A9343D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85C78-C645-444C-9350-4F783336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7032F-2DAD-4410-927F-B5DDF9B9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82E9C-017F-4F7C-8CAE-10581495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BE072-D6BB-465E-966D-793C7B32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FFD64-6343-4293-B195-A82A60BD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8242B-7B4E-4BB7-8F31-DD893CD0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2AFBE-6703-49B6-BBE7-BD9B28D9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CC977-D4A9-4DB4-A7E6-28BC400D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B5420-4685-4FA2-B7B5-58B713F6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3740-822C-4E2D-BAE8-DC8B178E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18FC6-1D9F-466C-BD50-F37FEA33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074B2-A2F8-4609-BFCD-B158C6B1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2FEE4-7843-438E-936F-565C79FC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D5AD1-52B7-480A-B1DB-66CD08DF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33BA3-BBD8-4D93-ADCA-269D70AE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86364-010E-47A9-9FFC-38C5C2DF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431E2-F89A-4BE7-9834-F72D88AE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14FD5-9EC3-4EC7-B6E6-DB0F7785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92E53-0736-41C6-A83A-710D5215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0379A-225E-49FD-8391-3A2BD549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ED16-562A-41CB-B738-837F0D02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32C94-55A9-4333-96C3-FBFD621E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096A5-A774-4778-9B18-34DFDFFB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2B98D-FBD3-4387-A4BA-8AE39D9B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21510-9C0D-44D5-935A-5515BF84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0A5D2-4FFA-4A8A-B218-B70D7C6E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93B5A-79C6-49D1-A610-4F24D90F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B8020-CD41-4FEE-9467-B508C65F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8BBA-B1D2-4EE0-8A8D-1191C706A34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ABB6-C780-4D20-B6C6-3BDAEC80CA3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C431-7BE4-48E1-BE5F-686955F6940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ECDA-59C8-4C56-B1F9-950158D9CDF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CB11-6017-4F3A-A5A5-935F48F2769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12D9-D3BE-48EE-8FD5-BFDBEE93EF6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0CEE-70A1-4214-AB1A-5E986781CBA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0D4A-27D9-4186-98D5-0E5509E2DDF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MITFC Ground School</a:t>
            </a:r>
            <a:br>
              <a:rPr sz="2500"/>
            </a:b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Fall 2009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Jason Malone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"/>
          <p:cNvPicPr/>
          <p:nvPr/>
        </p:nvPicPr>
        <p:blipFill>
          <a:blip r:embed="rId1"/>
          <a:srcRect l="0" t="0" r="0" b="14761"/>
          <a:stretch/>
        </p:blipFill>
        <p:spPr>
          <a:xfrm>
            <a:off x="5149800" y="1371600"/>
            <a:ext cx="3587760" cy="24382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80520" y="1600200"/>
            <a:ext cx="4038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ricycle landing gear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ail wheel / Conventiona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ilot must log ground instruction and receive endorsement from CFI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3" name="Title 3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"/>
          <p:cNvPicPr/>
          <p:nvPr/>
        </p:nvPicPr>
        <p:blipFill>
          <a:blip r:embed="rId3"/>
          <a:srcRect l="0" t="0" r="0" b="6316"/>
          <a:stretch/>
        </p:blipFill>
        <p:spPr>
          <a:xfrm>
            <a:off x="5151600" y="4038480"/>
            <a:ext cx="3574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Non-flashing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Position Lights required for Night Flight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6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"/>
          <p:cNvPicPr/>
          <p:nvPr/>
        </p:nvPicPr>
        <p:blipFill>
          <a:blip r:embed="rId2"/>
          <a:stretch/>
        </p:blipFill>
        <p:spPr>
          <a:xfrm>
            <a:off x="4653000" y="1914480"/>
            <a:ext cx="3962520" cy="4029120"/>
          </a:xfrm>
          <a:prstGeom prst="rect">
            <a:avLst/>
          </a:prstGeom>
          <a:ln w="158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600200"/>
            <a:ext cx="40384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ump fuel during preflight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ill tanks after flight to avoid condensatio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5181480" y="152280"/>
            <a:ext cx="3429000" cy="6384960"/>
          </a:xfrm>
          <a:prstGeom prst="rect">
            <a:avLst/>
          </a:prstGeom>
          <a:ln w="0">
            <a:noFill/>
          </a:ln>
        </p:spPr>
      </p:pic>
      <p:pic>
        <p:nvPicPr>
          <p:cNvPr id="381" name="Title 3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3"/>
          <a:stretch/>
        </p:blipFill>
        <p:spPr>
          <a:xfrm>
            <a:off x="380880" y="4343400"/>
            <a:ext cx="44960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04920" y="1480680"/>
            <a:ext cx="358128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uel/Air Mixture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Rich – High Fuel/Air ratio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Lean – Low Fuel/Air ratio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Lean the mixture during climb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Enrich the mixture during descent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3962520" y="2077920"/>
            <a:ext cx="5035320" cy="3332160"/>
          </a:xfrm>
          <a:prstGeom prst="rect">
            <a:avLst/>
          </a:prstGeom>
          <a:ln w="0">
            <a:noFill/>
          </a:ln>
        </p:spPr>
      </p:pic>
      <p:pic>
        <p:nvPicPr>
          <p:cNvPr id="385" name="Title 3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3276720" y="571500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igh Density Altitude = Low Air Densit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lean the mix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1"/>
          <a:srcRect l="0" t="0" r="0" b="10240"/>
          <a:stretch/>
        </p:blipFill>
        <p:spPr>
          <a:xfrm>
            <a:off x="5181480" y="152280"/>
            <a:ext cx="3408480" cy="40417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2"/>
          <a:srcRect l="0" t="0" r="0" b="22350"/>
          <a:stretch/>
        </p:blipFill>
        <p:spPr>
          <a:xfrm>
            <a:off x="5105520" y="4267080"/>
            <a:ext cx="3633840" cy="2476800"/>
          </a:xfrm>
          <a:prstGeom prst="rect">
            <a:avLst/>
          </a:prstGeom>
          <a:ln w="0">
            <a:noFill/>
          </a:ln>
        </p:spPr>
      </p:pic>
      <p:pic>
        <p:nvPicPr>
          <p:cNvPr id="389" name="Title 3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0" name="Content Placeholder 4"/>
          <p:cNvSpPr/>
          <p:nvPr/>
        </p:nvSpPr>
        <p:spPr>
          <a:xfrm>
            <a:off x="304920" y="144792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Content Placeholder 4"/>
          <p:cNvSpPr/>
          <p:nvPr/>
        </p:nvSpPr>
        <p:spPr>
          <a:xfrm>
            <a:off x="152280" y="1295280"/>
            <a:ext cx="48769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d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RPM 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Engine Rough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arb. Heat Enriches Mix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se Carb. Heat at low pow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Carb. Ice present, carb. heat will lead to RPM decrease, then RPM increase as ice me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Reciprocating Eng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our Stroke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Intake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Compression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Exhaust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3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5477040" y="1228680"/>
            <a:ext cx="336204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04920" y="1481040"/>
            <a:ext cx="449568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Sans Unicode"/>
              </a:rPr>
              <a:t>Detonation</a:t>
            </a: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Sans Unicode"/>
              </a:rPr>
              <a:t>Explosive Combustion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Sans Unicode"/>
              </a:rPr>
              <a:t>Occurs when mixture too lean or fuel grade too low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Sans Unicode"/>
              </a:rPr>
              <a:t>If detonation is suspected, try enriching the mixture or increasing airspeed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Sans Unicode"/>
              </a:rPr>
              <a:t>Pre-ignition</a:t>
            </a: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Sans Unicode"/>
              </a:rPr>
              <a:t>caused by hot spots in cylinder and/or cylinder damage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rcRect l="0" t="0" r="0" b="8158"/>
          <a:stretch/>
        </p:blipFill>
        <p:spPr>
          <a:xfrm>
            <a:off x="4952880" y="1447920"/>
            <a:ext cx="3886200" cy="3200400"/>
          </a:xfrm>
          <a:prstGeom prst="rect">
            <a:avLst/>
          </a:prstGeom>
          <a:ln w="0">
            <a:noFill/>
          </a:ln>
        </p:spPr>
      </p:pic>
      <p:pic>
        <p:nvPicPr>
          <p:cNvPr id="397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0680"/>
            <a:ext cx="403848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Magnetos provide self sufficient spark to cylinders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Mag. Check during runup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Engine will run with electrical system off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Two spark plugs per cylinder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4343400" y="3809880"/>
            <a:ext cx="4648320" cy="2700360"/>
          </a:xfrm>
          <a:prstGeom prst="rect">
            <a:avLst/>
          </a:prstGeom>
          <a:ln w="0">
            <a:noFill/>
          </a:ln>
        </p:spPr>
      </p:pic>
      <p:pic>
        <p:nvPicPr>
          <p:cNvPr id="400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3"/>
          <a:stretch/>
        </p:blipFill>
        <p:spPr>
          <a:xfrm>
            <a:off x="4786200" y="1428840"/>
            <a:ext cx="3810240" cy="20001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4"/>
          <a:srcRect l="3577" t="0" r="0" b="0"/>
          <a:stretch/>
        </p:blipFill>
        <p:spPr>
          <a:xfrm>
            <a:off x="1447920" y="4724280"/>
            <a:ext cx="1566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0680"/>
            <a:ext cx="40384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Lucida Sans Unicode"/>
              </a:rPr>
              <a:t>Functions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Lubrication of the engine’s moving part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Cooling of the engine by reducing friction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Lucida Sans Unicode"/>
              </a:rPr>
              <a:t>Removing heat from the cylinder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roviding a seal between the cylinder walls and piston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Carrying away contaminant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4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4648320" y="3902040"/>
            <a:ext cx="4038480" cy="2651040"/>
          </a:xfrm>
          <a:prstGeom prst="rect">
            <a:avLst/>
          </a:prstGeom>
          <a:ln w="0">
            <a:noFill/>
          </a:ln>
        </p:spPr>
      </p:pic>
      <p:sp>
        <p:nvSpPr>
          <p:cNvPr id="406" name="Content Placeholder 4"/>
          <p:cNvSpPr/>
          <p:nvPr/>
        </p:nvSpPr>
        <p:spPr>
          <a:xfrm>
            <a:off x="4419720" y="1447920"/>
            <a:ext cx="4495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lways check oil pressure immediately after starting eng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onitor oil temperature/pressure during f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2905200" cy="2819520"/>
          </a:xfrm>
          <a:prstGeom prst="rect">
            <a:avLst/>
          </a:prstGeom>
          <a:ln w="0">
            <a:noFill/>
          </a:ln>
        </p:spPr>
      </p:pic>
      <p:pic>
        <p:nvPicPr>
          <p:cNvPr id="408" name="Title 3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3"/>
          <a:stretch/>
        </p:blipFill>
        <p:spPr>
          <a:xfrm>
            <a:off x="5943600" y="4572000"/>
            <a:ext cx="2867040" cy="1943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75212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ixed Pitch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Lucida Sans Unicode"/>
              </a:rPr>
              <a:t>Throttle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controls RPM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onstant Speed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Lucida Sans Unicode"/>
              </a:rPr>
              <a:t>Throttle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controls power output (manifold pressure)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Lucida Sans Unicode"/>
              </a:rPr>
              <a:t>Propeller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control regulates engine RP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in turn regulates propeller RPM via automatic pitch change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8:34:42Z</dcterms:created>
  <dc:creator> JasonM</dc:creator>
  <dc:description/>
  <dc:language>en-US</dc:language>
  <cp:lastModifiedBy> JasonM</cp:lastModifiedBy>
  <dcterms:modified xsi:type="dcterms:W3CDTF">2009-11-12T03:17:37Z</dcterms:modified>
  <cp:revision>27</cp:revision>
  <dc:subject/>
  <dc:title>Slide 1</dc:title>
</cp:coreProperties>
</file>