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AFA-42BE-4D93-813C-CD19A85C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627-38A3-4907-BCA0-72055791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80CC-5449-445F-B4D8-31B5A64E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B0D2-7050-4F11-874A-0B662E0A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F72-CAA3-4067-A6BD-B0CA4789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C9E-257D-435E-A814-ADF0D7A6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970-F834-42FB-9FC4-BECDFF06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5A28-0A57-4F52-B59C-83A8E9EE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F10-6310-45F9-9C32-BB4F5509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210-7E3B-40A0-B105-9ADA573A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9E3-6778-4090-8AB6-B7E71001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513-32F1-4D04-9FF8-EFE54A23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EF77-E3C1-4BEB-9BB8-FBC61CB6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x Airplane Endo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ractable landing gear and   controllable-pitch prop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d log ground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ight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 endorsement certifying proficiency in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-performance Endo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 200 horsepower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d log ground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ight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 endorsement certifying proficiency in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118584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3166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plane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eronautical knowledg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rea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isfactory completion of practica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3733920" cy="2722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876920" y="1371600"/>
            <a:ext cx="41148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engine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eronautical knowledg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rea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isfactory completion of practica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3294000" cy="2280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35812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Pilot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Pilot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al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 must be com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0 total hours of fligh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 hours of pilot-in-comman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 hours of cross country pilot-in-comman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 hours of fligh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training in a complex air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instrumen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day VFR cross country of at least 2 hours and 100nm straight-lin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night VFR cross country of at least 2 hours and 100nm straight-lin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solo f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cross country of at least 300nm, a 250nm straight-line distance, and landings at a minimum of thre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hours of night VFR, including 10 takeoffs and 10 lan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65292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3-18T23:43:49Z</dcterms:modified>
  <cp:revision>10</cp:revision>
  <dc:subject/>
  <dc:title>Slide 1</dc:title>
</cp:coreProperties>
</file>