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1505-02A5-45A9-AF12-8EC9D95E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639-8CDA-49DD-814E-0281763B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689-DA08-4F6D-8675-B6FB3D4A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F6C-B83B-478A-9961-DC578D02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5FB-7A8F-42EE-A206-ADBEB446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31E-DEC5-4BDE-9C38-2D8EBDBE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2EB-A7F3-4DE5-B7AB-1ECE6C9D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9E0A-6882-42A6-9CD4-9CA8F81C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A02-85F9-45BE-9006-B78779C5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ABA-6968-4F25-8E27-61B26BB8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D6E-73F6-4DBC-904F-E91EECA8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4D1-F4BC-45CA-BD27-67982949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C434-D04A-4143-B23C-AD6985585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 I Become 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rtificated Flight Instru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vileges and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 students towards a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e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 (with instrument rating on instructor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FI (requires 24 months and 200 hours as C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engine (with multi on instructor cert. and 5 hours i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P (with ATP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 student pilots for solo privi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ddition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ight re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tions to new air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quirement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ledg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ronautical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amentals of Instru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al Test with FAA Inspector (first time only) or Exam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ximat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hours of grou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hours of flight training in a complex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o Private and Commercial Certificate while 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or acts as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training (e.g. Cessna 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tarting 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proficient at commercial maneu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omfortable flying from right s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knowledge tests out of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need an instructor sign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is knowledge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ractical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2 hours of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than 1 hour of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 material and know where to look up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fident but not co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pector will ask trick questions or say incorrec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t mistakes and look up what you’re unsur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3-18T23:45:31Z</dcterms:modified>
  <cp:revision>15</cp:revision>
  <dc:subject/>
  <dc:title>Slide 1</dc:title>
</cp:coreProperties>
</file>