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D0A6-C8E9-4709-A0EE-E5D5781A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702E-8D8E-40E1-B8AF-96F7376C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1B1-6660-4532-9729-5EA70CA1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D57-3659-42F7-A823-1FACDDE7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304-0293-48FF-92D1-C6D3156F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470B-97F3-4E26-945F-3E99FC7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25B-2D52-415E-ADA7-4321BAE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87B-8BF2-4963-A960-C8277BA2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B13-D4AB-48B4-9090-C0BB4627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7A39-E640-4B05-A0A5-D7D2240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B86-732D-47DB-B672-22741AF0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1FA-B0DA-4BA1-9506-3416426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A6B9-26C6-4538-A3FD-D9ACC822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5"/>
          <p:cNvGrpSpPr/>
          <p:nvPr/>
        </p:nvGrpSpPr>
        <p:grpSpPr>
          <a:xfrm>
            <a:off x="2401920" y="3164040"/>
            <a:ext cx="6761160" cy="1682640"/>
            <a:chOff x="2401920" y="3164040"/>
            <a:chExt cx="6761160" cy="1682640"/>
          </a:xfrm>
        </p:grpSpPr>
        <p:pic>
          <p:nvPicPr>
            <p:cNvPr id="43" name="Title 5" descr=""/>
            <p:cNvPicPr/>
            <p:nvPr/>
          </p:nvPicPr>
          <p:blipFill>
            <a:blip r:embed="rId1"/>
            <a:stretch/>
          </p:blipFill>
          <p:spPr>
            <a:xfrm>
              <a:off x="2401920" y="3164040"/>
              <a:ext cx="67611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438280" y="3200400"/>
              <a:ext cx="6553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lying in the U.S.</a:t>
              </a:r>
              <a:br>
                <a:rPr sz="4400"/>
              </a:b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or non-U.S. citize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tsa_logo.bmp"/>
          <p:cNvPicPr/>
          <p:nvPr/>
        </p:nvPicPr>
        <p:blipFill>
          <a:blip r:embed="rId2"/>
          <a:stretch/>
        </p:blipFill>
        <p:spPr>
          <a:xfrm>
            <a:off x="743040" y="987480"/>
            <a:ext cx="3597120" cy="23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AA_Logo_Color.gif"/>
          <p:cNvPicPr/>
          <p:nvPr/>
        </p:nvPicPr>
        <p:blipFill>
          <a:blip r:embed="rId3"/>
          <a:stretch/>
        </p:blipFill>
        <p:spPr>
          <a:xfrm>
            <a:off x="6394320" y="401760"/>
            <a:ext cx="235908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09480" y="51814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ign license con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Image 1.png"/>
          <p:cNvPicPr/>
          <p:nvPr/>
        </p:nvPicPr>
        <p:blipFill>
          <a:blip r:embed="rId4"/>
          <a:stretch/>
        </p:blipFill>
        <p:spPr>
          <a:xfrm>
            <a:off x="609480" y="3505320"/>
            <a:ext cx="24004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ships, balloons, and glider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review and proficiency check, or tailwheel, high-performance, and complex endorsement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ilot must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visi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1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2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flight 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3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—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4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recurrent training if you are current and qualified in the aircraft you want to trai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website: 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flightschoolcandidates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P.Help@dhs.gov  — Phone (571) 227-4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aopa.org/tsa_rule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ts of information in pla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y 3 – Training for sport, recreational, and private pilot certificates, or instrument and multiengine ratings, aircrafts under 12,500 l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/school registers with TS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lightschoolcandidates.gov/fsindex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resents current valid pas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registers and applies for training with TS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http://www.flightschoolcandidates.go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 confirms student’s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ays TSA $130 processin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preliminary decision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submits fingerprints to TSA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300" spc="-1" strike="noStrike">
                <a:solidFill>
                  <a:srgbClr val="bfbfbf"/>
                </a:solidFill>
                <a:latin typeface="Arial"/>
              </a:rPr>
              <a:t>http://www.tsc-csc.com/printoffices/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for list of locations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st one Providence airport, business hours; or Terryville, CT (anytime with appointment)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confirms receipt of fingerprints and fee and allows flight training to beg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hoto taken on first day of flight training and sent to T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notifies instructor if training needs to s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ining must start within 6 months of approval and be completed within 1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gerprinting is once and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ing from a foreign licen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needs to be from International Civil Aviation Org. (ICAO)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background check, fingerprinting, TSA registration, or oth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U.S. medical certificate (U.S. medical ca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 u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prove English proficiency for radio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take FAA (written) knowledge te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xcept for IFR: instrument foreign pilot (IFP)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A license will be dependant on the the foreign license and medic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you only need to keep one license and medical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 from FAA a verification of the authenticity and currency of your foreign licens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licenses_certificates/airmen_certification/foreign_license_verific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 and Australia pilots need to contact their civil aviation authority prior to requesting the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A will send you a letter once this is complete (&lt; 3 months) and will mail a copy to the FSDO you have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l out FAA form 8710-1 –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 http://forms.faa.gov/forms/faa8710-1a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then hav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month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sit the FSDO with all your documents and FAA form to get your FAA “restricted” certificate issued – call ahead of tim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about/office_org/field_offices/fsdo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xington, MA, near KB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eign license of any level (private, commercial, ATP) will be converted into FAA private only (except Canada, by taking a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structors/FBOs tend 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ke converted licen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16200000">
            <a:off x="8020080" y="577872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fbfbf"/>
                </a:solidFill>
                <a:latin typeface="Arial"/>
              </a:rPr>
              <a:t>Sources: FAA, A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1:28Z</dcterms:created>
  <dc:creator> </dc:creator>
  <dc:description/>
  <dc:language>en-US</dc:language>
  <cp:lastModifiedBy>Jeremy Katz</cp:lastModifiedBy>
  <dcterms:modified xsi:type="dcterms:W3CDTF">2008-03-19T02:45:25Z</dcterms:modified>
  <cp:revision>31</cp:revision>
  <dc:subject/>
  <dc:title>Slide 1</dc:title>
</cp:coreProperties>
</file>