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164B-A708-4211-9ECC-014ADF2FC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44B-E4B6-44DF-8C35-8595E198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590-3725-49F4-A216-77F1933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899-40F3-4A49-A572-B5B1971C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F10-4740-46BD-AB61-8246CA11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5B0-3EB4-4D16-8417-3D60C514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EAB-0360-4D5A-A5A7-30117CF6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76F-6A28-405E-B297-E6ED91C4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6CB-1947-45B4-80BA-3532E1DC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0E7-6012-4AD5-B41F-7FE71AD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4A4-C682-487E-8BFB-0806D02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684-8F2B-479D-BF28-5002F3CA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3831-0C97-4BA1-89BD-48038C425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ro.aerobaticsweb.org/images/super_d2_963x640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batic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and Chec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10-15 hours of dual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wheel instruction and endorsement is usually a part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se aircraf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from abnormal attitudes and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4496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4-15T20:44:26Z</dcterms:modified>
  <cp:revision>12</cp:revision>
  <dc:subject/>
  <dc:title>Slide 1</dc:title>
</cp:coreProperties>
</file>