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F80-1122-44F2-B206-FD7B11C1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B3C-7C54-4251-BCFC-DC412D47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146A-DA15-4D95-A1AF-9D592E76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ECE-E28A-4638-B405-41183CE8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5E61-6E92-4D03-965B-849B8A85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473-C7B1-40F8-B203-81E8F5F8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8C38-D0B7-41F6-BEBB-695DA68D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9B3-9A04-43A2-9E2E-7E1999A6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87D-FC6C-4E38-85AA-5241AC53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BC83-59DC-43A9-9FB1-340FEA4A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ED91-40F5-4B6F-81E4-2D4B8367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6CF-78F1-4F70-B848-FB223214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1C6B-69C3-4F52-A8B9-4A08EE7AE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48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049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NNA LEARN TO FL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people to fly wi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05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to take flying trips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362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pe C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3733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bey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281952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artha’s Viney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rovincet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15238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Flying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4876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 SESSION AND MIX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4100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15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7:30 – 8:30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943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-225. Food provid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2514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.mit.edu/mitfl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transparent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68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2:07:01Z</dcterms:created>
  <dc:creator>CJS</dc:creator>
  <dc:description/>
  <dc:language>en-US</dc:language>
  <cp:lastModifiedBy>CJS</cp:lastModifiedBy>
  <dcterms:modified xsi:type="dcterms:W3CDTF">2006-02-25T20:53:34Z</dcterms:modified>
  <cp:revision>5</cp:revision>
  <dc:subject/>
  <dc:title>PowerPoint Presentation</dc:title>
</cp:coreProperties>
</file>