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46304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854D-A4C0-4BA4-9944-E2C9B971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A80-D522-4516-A649-7546970F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AA1-3700-47C1-B23C-58348812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17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06520" y="264168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969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017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06520" y="5507640"/>
            <a:ext cx="40042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ACDA-2CD0-4C7B-9AB3-CCC0EC89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16F7-AD65-4BC4-AF64-B72CCB1D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A9EE-208C-44A5-A14F-F906C3E9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0AC-30B8-47A9-9F85-C5AFBB7E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502-5D13-486A-AAD7-7E0FAD5E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6920" y="812520"/>
            <a:ext cx="124365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E89-AE27-45E0-BAF8-C3976305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6A9-A674-475B-86A3-D8E72D76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69640" y="550764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8A6-163F-4F8D-AFD1-60BC6B53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9692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69640" y="2641680"/>
            <a:ext cx="606888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96920" y="5507640"/>
            <a:ext cx="12436560" cy="2616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FF6-C2D5-42E5-9A06-5E0049E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6920" y="812520"/>
            <a:ext cx="12436560" cy="152388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6920" y="2641680"/>
            <a:ext cx="12436560" cy="54864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 fontScale="90000"/>
          </a:bodyPr>
          <a:p>
            <a:pPr marL="458640" indent="-45864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1" marL="992880" indent="-38160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8560" indent="-305280">
              <a:spcBef>
                <a:spcPts val="1176"/>
              </a:spcBef>
              <a:buClr>
                <a:srgbClr val="000000"/>
              </a:buClr>
              <a:buFont typeface="Times New Roman"/>
              <a:buChar char="•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3" marL="214020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–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4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5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lvl="6" marL="2751480" indent="-307080">
              <a:spcBef>
                <a:spcPts val="1176"/>
              </a:spcBef>
              <a:buClr>
                <a:srgbClr val="000000"/>
              </a:buClr>
              <a:buFont typeface="Times New Roman"/>
              <a:buChar char="»"/>
              <a:tabLst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9656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8331120"/>
            <a:ext cx="463248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833112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fld id="{42DC54C1-4553-4012-BAFB-65C63AF537A8}" type="slidenum"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G_4839" descr=""/>
          <p:cNvPicPr/>
          <p:nvPr/>
        </p:nvPicPr>
        <p:blipFill>
          <a:blip r:embed="rId1"/>
          <a:stretch/>
        </p:blipFill>
        <p:spPr>
          <a:xfrm>
            <a:off x="0" y="0"/>
            <a:ext cx="14630400" cy="10972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41360" y="406440"/>
            <a:ext cx="12192120" cy="12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 algn="ctr">
              <a:lnSpc>
                <a:spcPct val="100000"/>
              </a:lnSpc>
              <a:spcBef>
                <a:spcPts val="4436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7100" spc="-1" strike="noStrike">
                <a:solidFill>
                  <a:srgbClr val="ffffff"/>
                </a:solidFill>
                <a:latin typeface="Arial"/>
              </a:rPr>
              <a:t>WANNA LEARN TO FLY?</a:t>
            </a:r>
            <a:endParaRPr b="0" lang="en-US" sz="7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440" y="193032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people to fly with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440" y="2540160"/>
            <a:ext cx="6950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ant to take flying trips to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3149640"/>
            <a:ext cx="3414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Cape Co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978440"/>
            <a:ext cx="4510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and beyond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759120"/>
            <a:ext cx="5243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Martha’s Vineyar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368960"/>
            <a:ext cx="4144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- Provincetow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049200" y="2008080"/>
            <a:ext cx="1950840" cy="14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otype Corsiva"/>
              </a:rPr>
              <a:t>Flying Clu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9520" y="6702480"/>
            <a:ext cx="7559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FO SESSION AND MIXER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7412040"/>
            <a:ext cx="92646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ch 15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, 7:30 – 8:30pm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8123400"/>
            <a:ext cx="658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5-225. Food provided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18520" y="3325680"/>
            <a:ext cx="5121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720" rIns="135720" tIns="68040" bIns="6804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1359000"/>
                <a:tab algn="l" pos="2717640"/>
                <a:tab algn="l" pos="4076640"/>
                <a:tab algn="l" pos="5435640"/>
                <a:tab algn="l" pos="6794640"/>
                <a:tab algn="l" pos="8153280"/>
                <a:tab algn="l" pos="9512280"/>
                <a:tab algn="l" pos="108712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eb.mit.edu/mitfly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transparent" descr=""/>
          <p:cNvPicPr/>
          <p:nvPr/>
        </p:nvPicPr>
        <p:blipFill>
          <a:blip r:embed="rId2"/>
          <a:stretch/>
        </p:blipFill>
        <p:spPr>
          <a:xfrm>
            <a:off x="8458200" y="2209680"/>
            <a:ext cx="36576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2:07:01Z</dcterms:created>
  <dc:creator>CJS</dc:creator>
  <dc:description/>
  <dc:language>en-US</dc:language>
  <cp:lastModifiedBy>CJS</cp:lastModifiedBy>
  <dcterms:modified xsi:type="dcterms:W3CDTF">2006-02-25T20:53:11Z</dcterms:modified>
  <cp:revision>6</cp:revision>
  <dc:subject/>
  <dc:title>PowerPoint Presentation</dc:title>
</cp:coreProperties>
</file>