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F68-5170-4F56-BDA5-9A188C9B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C95-3854-4A5E-AD8B-7C09E96E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BFD0-840C-417E-A56F-FC0CAE2A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577-F056-4F9B-A055-C9255D8F7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6163-D4CC-4A6E-A847-45DBE3B2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9180-C196-46CA-94BA-64ABD515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B221-9FB7-488C-A837-B84636B7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E727-5686-4D04-BBF3-154D5A85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10BF-491D-4C97-B92C-4457D2FB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0435-C454-47C7-8EB8-443B5D47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5269-2442-4921-8F44-71DB54C8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A24-109A-45D6-B8F0-61C4BBA2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6252-A8CF-42A2-8598-1D1E4150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11DC-3A6A-4FD8-A623-157654DE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4E44-5D40-47B3-9CE9-C916E478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D336-EEA6-43E5-9285-B8E95003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06632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654000"/>
            <a:ext cx="25761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D461-0273-48E4-BDC6-0AE985F4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48D2-390A-453E-A336-DB6D4A8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56A-26CF-4D11-BB46-E4D44045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BFFB-D3D0-445C-AB1A-35B8A3A8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A49-A65C-4D7D-A0BC-6AED6249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D49-CEAF-4181-9CFE-0B931F0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65400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E07-A9E9-47ED-A8AC-C33B219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5632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066320"/>
            <a:ext cx="39042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654000"/>
            <a:ext cx="80010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754-3528-4A12-AA27-F4D61BA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52320" y="9144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C240-8FF4-4818-B930-127929B936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DF7-173F-4CB2-81BE-AC44C1738E0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3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ircraft Performan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ITFC Ground Sch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anuary 13, 201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mbing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of excess power to push plane upw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power drives climb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 thrust drives climb ang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27600" y="2743200"/>
            <a:ext cx="4316400" cy="3313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57200" y="2819520"/>
            <a:ext cx="4267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mb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09680" y="762120"/>
            <a:ext cx="4829400" cy="64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keoff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415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way Conditions: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t runw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s of W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adwind = reduced takeoff di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ilwind = increased takeoff distan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wi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 of wind in direction perpendicular to aircraft dir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craft have crosswind limi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84520" y="1106640"/>
            <a:ext cx="4735800" cy="63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off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1177920"/>
            <a:ext cx="7086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-Sp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S – True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AS – Indicated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s1 – Stall speed in standard configu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x - Best Angle of Climb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y – Best Rate of Climb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a – Maneuvering speed (max deflection of controls saf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_ne – Never Exceed Air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mospheric Proper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ircraft performance charts referenced to ICAO Standard Atmosp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9.92 in Hg (14.7 psi) a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1 in Hg per 1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°C at su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reases 2°C per 1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justments given for non-standard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sity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Altit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tude in the standard atmosphere that corresponds to the current outside pres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the altimeter sen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imeter is corrected to “actual” altitude via altimeter settings, which are broadcasted by air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ted b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tting your altimeter to 29.92 “Hg and reading alt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ying a correction factor to the current altitude based on your altimeter set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nsity Altitude (DA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altitude corrected for variations in tempera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tude in the standard atmosphere that corresponds to the current outside air dens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nsity (mass/volume) is affected by altitude, temperature, and humid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describ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 = higher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temperature = higher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DA = lower aircraft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duced lifting medium for w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ircraft stalls at higher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gine power is reduc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ed plainly, higher DA means lower density, or less air molecules to work wi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itude Calc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37767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Pressure and Density Altit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imeter setting is 30.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 airport at 42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29.92-30.12)*1000 = -200 ft plus 4,200 = 4000  …or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wist altimeter setting to 29.92, and find that the pressure altitude is 4,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an OAT of 16C, what is Density Altitud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,000 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8892" r="25004" b="0"/>
          <a:stretch/>
        </p:blipFill>
        <p:spPr>
          <a:xfrm>
            <a:off x="4343400" y="990720"/>
            <a:ext cx="45720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craft 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4157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asite 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duced by aircraft as it moves through ai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with square of airsp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ced 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ag created by li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reases at high Angle of Attack/Lower Airspe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52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066320"/>
            <a:ext cx="40816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on 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C (internal combusi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GA Aircra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3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opr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rbofa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decreases with density altit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ust decreases with airspeed (propeller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riable pitch propellers (constant speed prop) offer better propeller efficiency over wider ran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sic GA aircraft use fixed-pitch pr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43360" y="1371600"/>
            <a:ext cx="44006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ady Level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wer = Thrust * Velo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Drag * Velocity in steady f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propeller aircraft, at a given throttle setting, power approximately constant with spe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ss thrust at higher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33720" y="2925720"/>
            <a:ext cx="495288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ise Fligh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0663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90720" y="1160640"/>
            <a:ext cx="70866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20:12:00Z</dcterms:created>
  <dc:creator>JL</dc:creator>
  <dc:description/>
  <dc:language>en-US</dc:language>
  <cp:lastModifiedBy>Jonathan </cp:lastModifiedBy>
  <dcterms:modified xsi:type="dcterms:W3CDTF">2010-01-13T23:02:29Z</dcterms:modified>
  <cp:revision>4</cp:revision>
  <dc:subject/>
  <dc:title>Aircraft Performance</dc:title>
</cp:coreProperties>
</file>