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1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.wmf" ContentType="image/x-wmf"/>
  <Override PartName="/ppt/media/image3.gif" ContentType="image/gif"/>
  <Override PartName="/ppt/media/image20.jpeg" ContentType="image/jpeg"/>
  <Override PartName="/ppt/media/image12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5.gif" ContentType="image/gif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030-7D04-419A-8471-57EAFD62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A94-FD45-4AC5-A63A-621AC6F2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642-0852-4A52-A677-35C37A97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F49-1C41-4C9B-BE1A-A9AB3B57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A0AA-F6EF-40AC-B420-3D29D68E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5751-EF31-485F-99A6-34B1630C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C166-AEB5-46B1-AC8B-29BF122E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E63D-C9C0-4785-87C0-7AE57858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0E60-0EFF-42DB-A45C-D63D3556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5C21-7C9A-407F-BCD3-527B3C15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C2ED-7E87-4B34-9BE5-BFBE823C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B2E2-5C98-42B0-BDC5-79486451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2FC-7906-4956-BE75-383E683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F373-B772-47E3-889A-6E7B47F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D6AE-6CEA-4046-A686-70ABD246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E31B-DB4E-4E7A-B42E-05F86441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7D5C-C10E-461A-B53D-8F69B5D7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23D-52A6-43CD-B005-14B2C8B6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700-58FE-401C-B55B-B30BFADF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5F9-8256-43C0-BAE3-CA4E7438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B3E-66BF-4421-A65E-1CC44C33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290-57F0-4DFC-83E1-6EFDB00B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DCC-0CB6-40C6-B667-3C31D6A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9E6-082F-4E99-ABDA-86352F0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F321-D2A4-47B1-8CAA-0BC4E88DE5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E2A1-2828-445F-8BB4-9378CDCF7C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rc.nasa.gov/WWW/K-12/airplane/pitch.html" TargetMode="External"/><Relationship Id="rId2" Type="http://schemas.openxmlformats.org/officeDocument/2006/relationships/hyperlink" Target="http://www.grc.nasa.gov/WWW/K-12/airplane/roll.html" TargetMode="External"/><Relationship Id="rId3" Type="http://schemas.openxmlformats.org/officeDocument/2006/relationships/hyperlink" Target="http://www.grc.nasa.gov/WWW/K-12/airplane/yaw.html" TargetMode="External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elair.selkirk.bc.ca/aerodynamics1/Stability/Page3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tability and Flight Control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ter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longitudin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Roll 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influenced 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hed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eep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vs. Low W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324240" cy="36291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3324240" cy="36288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creasing Later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911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hedr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Dihedral effect on lateral stability"/>
          <p:cNvPicPr/>
          <p:nvPr/>
        </p:nvPicPr>
        <p:blipFill>
          <a:blip r:embed="rId2"/>
          <a:stretch/>
        </p:blipFill>
        <p:spPr>
          <a:xfrm>
            <a:off x="4724280" y="1905120"/>
            <a:ext cx="3829320" cy="42098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1295280"/>
            <a:ext cx="419112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g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51460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048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90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476440" y="42195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ion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vertic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luenced by size and location of vertical stabiliz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weather vane or feathers on an ar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4387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certain angle of attack airflow cannot “stick” to top of 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 flow separation occ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1865160"/>
            <a:ext cx="4038480" cy="4000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l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critical angle of attack” does not change for a given w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loss of lift when stal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ll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-22 Stall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86200" cy="3640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i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coordinated stalls result in sp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wings are stalled, 1 wing “more” stalled than 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tating helical downward p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y to recover from in Cessna 17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on’t have to do this during trai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erodynamics of Maneuvering Fligh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mb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plane climbs due to inclined thrust v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still in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e at which airplane climbs determined by excess thru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ft Turning Tendenc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r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 F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iraling Slip Strea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yroscopic Prec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not always a left turning tend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554"/>
          <a:stretch/>
        </p:blipFill>
        <p:spPr>
          <a:xfrm>
            <a:off x="4419720" y="144792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scend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rplane descends when flight path is pointed down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still in equilibriu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e Axes of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itudinal (gre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se to t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teral (bl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ng tip to Wing t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 (r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to bott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475160" cy="3392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3505320"/>
            <a:ext cx="457200" cy="1981080"/>
          </a:xfrm>
          <a:custGeom>
            <a:avLst/>
            <a:gdLst>
              <a:gd name="textAreaLeft" fmla="*/ 61200 w 457200"/>
              <a:gd name="textAreaRight" fmla="*/ 396000 w 45720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800600"/>
            <a:ext cx="190476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0120" y="5410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5943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urning Fligh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izontal component of lift turns pla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dder is used to maintain coordin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forces are not in equilibrium, this is accelerated f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0" r="0" b="3950"/>
          <a:stretch/>
        </p:blipFill>
        <p:spPr>
          <a:xfrm>
            <a:off x="4648320" y="1935000"/>
            <a:ext cx="4038480" cy="37087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ad Fac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o of weight supported by wings to weight of aircr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as G’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load factor of 2, or 2 G’s means wings support twice aircraft we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ing load factor increases stall spe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0" t="0" r="0" b="5097"/>
          <a:stretch/>
        </p:blipFill>
        <p:spPr>
          <a:xfrm>
            <a:off x="5105520" y="1371600"/>
            <a:ext cx="3429000" cy="3070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715000" y="4572000"/>
                <a:ext cx="1986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r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81040" y="1486080"/>
            <a:ext cx="618012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Flight Contro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71440" y="1066320"/>
            <a:ext cx="5181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Pit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later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ele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Ro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longitudin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aile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 about the vertical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by the ru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Computer animation of an airliner in which the wings&#10; moves up and down in response to changing the aileron angle."/>
          <p:cNvPicPr/>
          <p:nvPr/>
        </p:nvPicPr>
        <p:blipFill>
          <a:blip r:embed="rId4"/>
          <a:stretch/>
        </p:blipFill>
        <p:spPr>
          <a:xfrm>
            <a:off x="380880" y="2666880"/>
            <a:ext cx="2438640" cy="1968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omputer animation of an airliner in which the nose&#10; moves up and down in response to changing the elevator angle."/>
          <p:cNvPicPr/>
          <p:nvPr/>
        </p:nvPicPr>
        <p:blipFill>
          <a:blip r:embed="rId5"/>
          <a:stretch/>
        </p:blipFill>
        <p:spPr>
          <a:xfrm>
            <a:off x="304920" y="990720"/>
            <a:ext cx="2438280" cy="196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omputer animation of an airliner in which the nose&#10; moves side to side in response to changing the rudder angle."/>
          <p:cNvPicPr/>
          <p:nvPr/>
        </p:nvPicPr>
        <p:blipFill>
          <a:blip r:embed="rId6"/>
          <a:stretch/>
        </p:blipFill>
        <p:spPr>
          <a:xfrm>
            <a:off x="380880" y="4299120"/>
            <a:ext cx="2438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verse Yaw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(or why we have a Rudder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uced dra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in lift = increase in dr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want to roll to l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ke turns to lef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ft aileron goes up, right aileron goes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ht wing develops more lift, therefore more dr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Plane tries to yaw in opposite direction to ro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184560" cy="4195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(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returns to starting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remains in new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ative (unstab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l moves away from starting position when disturb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13180" r="0" b="0"/>
          <a:stretch/>
        </p:blipFill>
        <p:spPr>
          <a:xfrm>
            <a:off x="4686480" y="2592360"/>
            <a:ext cx="3848040" cy="3019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atic Stability (continue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514600" cy="1528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172200" y="4572000"/>
            <a:ext cx="2590920" cy="1574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124080" y="2895480"/>
            <a:ext cx="2590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ynamic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decrease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are constant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cillations increase in amplitude wit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 are all types of Positive Static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Link to animation of dynamic longitudinal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0" y="1523880"/>
          <a:ext cx="4241880" cy="440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523880"/>
                    <a:ext cx="4241880" cy="44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ngitudinal St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ty about lateral ax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KA Pitch St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pendent on location of Center of Gr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 too far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le (too s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 too far 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ll Recovery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 39 Gripen Cras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 39 Gripen Crash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343400" y="3581280"/>
          <a:ext cx="449568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581280"/>
                    <a:ext cx="44956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76320" y="6324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enn Fisher                                                           Private Pilot Ground School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914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18288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1447920"/>
            <a:ext cx="1523880" cy="83808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72200" y="6094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ch up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666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tch down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16765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 of at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2163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019920" y="1523880"/>
            <a:ext cx="1447560" cy="53352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1219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6:28:10Z</dcterms:created>
  <dc:creator>JL</dc:creator>
  <dc:description/>
  <dc:language>en-US</dc:language>
  <cp:lastModifiedBy>JL</cp:lastModifiedBy>
  <dcterms:modified xsi:type="dcterms:W3CDTF">2010-02-12T00:16:05Z</dcterms:modified>
  <cp:revision>4</cp:revision>
  <dc:subject/>
  <dc:title>Slide 1</dc:title>
</cp:coreProperties>
</file>