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1E3F-FE77-4B05-B0DE-3A21D333D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5714-7C76-49D3-88BE-B92E20B4F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21C8-12C2-431F-A0C7-C56639179A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DD9-3296-417E-9536-4E42CF39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017-9279-4D40-9392-ED3326DA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4778-D451-4E5D-B63D-DFD6203F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A22-6CBE-4499-A6E8-EBC4A0B5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7726-2D3E-466C-BE42-3FB60BE8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3775-9C87-4924-B70E-77C8D9F9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1451-65CC-4C6F-A10D-13A012C3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6EDF-C06A-4ABA-9716-4BE4D528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A8B6-5026-49BB-B711-497C9A70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37DE-A04F-477C-BCC8-21C400A2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50E2-9DB8-4B99-AD9C-C044A410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2C7-2B3D-4888-B658-C211D784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C55C-C556-4800-9983-62E9580A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0F8F-C9AA-41C4-A842-E3579DE7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C28A-B604-46C6-8CF5-FE821156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6A0D-250F-4A89-8EA8-2591CC1B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D875-30A3-4266-826A-0806E198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B331-343D-4B76-829D-61C51D4C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9521-B445-48DD-84CD-AE557D89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F096-7E20-4D64-AF74-EA966AB7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992D8-3B04-4B95-A604-74EB84C1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8893-10B3-483E-96C1-87C3BCC7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CB0-7672-422D-88FF-3EE770E3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473E1-4AC7-4B52-8BB4-0D21658E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3BD6C-0997-451F-A308-84CF6478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16BBC-7967-444A-9A56-95530A72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548DE-82AC-4482-8285-51FD34F2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B6938-E352-4E91-96F5-16A6642B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BDA2-1B51-4605-9FA2-2AC3D486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9F039-BE5D-49C6-A1B3-686E5C4F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B8CC2-B4FA-45B1-8217-50449B7E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D8C1A-3843-4E26-824C-EAD39D10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2A720-65B1-4706-ABDB-15E22D01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23ED-8491-41F2-9D3B-3298F6D9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67780-E2BD-4475-8745-451DA57E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C12E3-EE51-4440-91B5-CE73C9F9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7D892-FF62-49B2-A4AA-8DC0A36A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18FD6-D450-4351-999E-877426A2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FFCBD-3D62-4498-B85F-634F3221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71262-D56D-41D9-AC14-843C3C24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54CF3-ED78-47F2-9143-292440BD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643CC-7C1D-44EE-AAC0-00E8FC8B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05927-1D61-4E5C-B0B2-96981CAE4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896A7-9C58-42DA-B3A7-B22CC066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58A-C3B9-4ECB-8995-1181F884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B644C-BCC7-45F3-9384-A28F89F1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4C6FE-A2A7-4C3F-9E43-9D9AB745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F81C5-584F-4D84-B7CC-EC1A1A28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C13CD-4002-42BC-A2F7-26931865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E9366-C4F0-4966-8405-FF0AAF08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3C50D-ED9D-4977-969B-46914A21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4EEB3-2954-481E-A1A5-FECCFC44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05571-5EEA-40E6-A325-F2CE2E1C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9960C-5023-42CB-A961-CA0A4D59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A2092-9AB3-4246-B2EA-706C2ED3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355-7F0F-4BE4-9761-E81A980D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694D4-8910-4AEB-88CE-4109AA4E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0AA97-922C-4744-BA62-9F6ADC93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69055-0BCF-46D4-B76F-2FB5AB4A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A4E9B-578F-4D27-B640-B2470EE4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B97CB-8FAB-4DF8-873C-EE03D410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1D9B9-8FF6-4EB3-92A9-B9CC5B3C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FDD8B-E41E-45A5-8F0C-D5B38171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05830-78D2-4664-A5ED-1DDA2378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C3E2F-1241-4B27-B7E0-7310AC27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B4338-3977-4F99-BF59-1B03FD27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4C3-A57E-4935-9FE9-D1EE55F9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1FEB3-D9AC-46DD-A583-44BC9EC8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F3875-0356-47C8-9296-682CBEE4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1620C-CB5D-439C-8540-AB1896F0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F3A47-E126-49B5-B513-2AC79BCC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2D40B-FEF0-4424-A37B-761B6D10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0EB33-59FA-4CE7-A8B7-AF753A18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9F9D2-BBB8-44DF-BC77-8176488D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B8E0C-7B39-492F-A9E6-5CCDA28A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4750B-5934-4BBE-9B0E-12C29BDA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4957E-B0F7-460F-B1E0-A282D831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27AE-3BA7-4528-88E7-4DBA02D1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FF69E-4E8E-42C8-B5C6-64CA3603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E9296-81F5-4501-95D7-B2381A0B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C9CE4-7489-4437-8131-7E35F6A0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4B393-3876-4CC5-8F24-BC6A0FEA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F90C9-23A3-4868-95C0-6EAFE1BD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B0EB1-B541-4706-BC2E-CF1D133E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8C582-7377-4A20-A71D-42FC5FA5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9592C-4B53-456B-869C-CF77C119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CEC0E-0254-402F-BF21-353AADE0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68399-E303-4FED-89BA-0FFB8B96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157F-E978-4849-B3D8-F37019A0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1BE7-DB26-417D-9149-11124257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E83CA-C11F-458E-8882-0C516095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7BCD7-B745-4201-9460-68417A95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3BB34-16BF-4047-8CAD-EE690A85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45CD7-D23D-41BF-8090-19B74D7A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88C25-C400-4BBB-BB72-2D5A981C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8027E-841B-476D-8A1D-D77745CD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14F0-C7A0-4A29-A72F-BED5CCF3EFA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76B6-2170-4E5D-84E6-BE4CFB8892F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D729-7589-491D-B08C-DE4D30B7483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1FEE-8B93-4CBA-B1C2-8B53EE1212F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9304-82E9-458C-B3BB-5B641C1488C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62D7-491D-408F-BBA6-DDE6FC2CDC0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2C62-3374-44AB-835F-67401259331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260E-7991-498E-A833-86BD33691E6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MITFC Ground School</a:t>
            </a:r>
            <a:br>
              <a:rPr sz="2500"/>
            </a:b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Fall 2009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Jason Malone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"/>
          <p:cNvPicPr/>
          <p:nvPr/>
        </p:nvPicPr>
        <p:blipFill>
          <a:blip r:embed="rId1"/>
          <a:srcRect l="0" t="0" r="0" b="14761"/>
          <a:stretch/>
        </p:blipFill>
        <p:spPr>
          <a:xfrm>
            <a:off x="5149800" y="1371600"/>
            <a:ext cx="3587760" cy="24382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80520" y="1600200"/>
            <a:ext cx="4038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ricycle landing gear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Tail wheel / Conventiona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ilot must log ground instruction and receive endorsement from CFI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3"/>
          <a:srcRect l="0" t="0" r="0" b="6316"/>
          <a:stretch/>
        </p:blipFill>
        <p:spPr>
          <a:xfrm>
            <a:off x="5151600" y="4038480"/>
            <a:ext cx="3574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Non-flashing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Position Lights required for Night Fligh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6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"/>
          <p:cNvPicPr/>
          <p:nvPr/>
        </p:nvPicPr>
        <p:blipFill>
          <a:blip r:embed="rId2"/>
          <a:stretch/>
        </p:blipFill>
        <p:spPr>
          <a:xfrm>
            <a:off x="4653000" y="1914480"/>
            <a:ext cx="3962520" cy="402912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60020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ump fuel during prefligh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ll tanks after flight to avoid condensatio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5181480" y="152280"/>
            <a:ext cx="3429000" cy="6384960"/>
          </a:xfrm>
          <a:prstGeom prst="rect">
            <a:avLst/>
          </a:prstGeom>
          <a:ln w="0">
            <a:noFill/>
          </a:ln>
        </p:spPr>
      </p:pic>
      <p:pic>
        <p:nvPicPr>
          <p:cNvPr id="381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3" descr=""/>
          <p:cNvPicPr/>
          <p:nvPr/>
        </p:nvPicPr>
        <p:blipFill>
          <a:blip r:embed="rId3"/>
          <a:stretch/>
        </p:blipFill>
        <p:spPr>
          <a:xfrm>
            <a:off x="380880" y="4343400"/>
            <a:ext cx="44960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04920" y="1480680"/>
            <a:ext cx="358128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uel/Air Mixture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ich – High Fuel/Air ratio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ean – Low Fuel/Air ratio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Lean the mixture during climb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nrich the mixture during descent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3962520" y="2077920"/>
            <a:ext cx="5035320" cy="3332160"/>
          </a:xfrm>
          <a:prstGeom prst="rect">
            <a:avLst/>
          </a:prstGeom>
          <a:ln w="0">
            <a:noFill/>
          </a:ln>
        </p:spPr>
      </p:pic>
      <p:pic>
        <p:nvPicPr>
          <p:cNvPr id="385" name="Title 3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276720" y="57150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High Density Altitude = Low Air Density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lean the mix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rcRect l="0" t="0" r="0" b="10240"/>
          <a:stretch/>
        </p:blipFill>
        <p:spPr>
          <a:xfrm>
            <a:off x="5181480" y="152280"/>
            <a:ext cx="3408480" cy="40417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"/>
          <p:cNvPicPr/>
          <p:nvPr/>
        </p:nvPicPr>
        <p:blipFill>
          <a:blip r:embed="rId2"/>
          <a:srcRect l="0" t="0" r="0" b="22350"/>
          <a:stretch/>
        </p:blipFill>
        <p:spPr>
          <a:xfrm>
            <a:off x="5105520" y="4267080"/>
            <a:ext cx="3633840" cy="2476800"/>
          </a:xfrm>
          <a:prstGeom prst="rect">
            <a:avLst/>
          </a:prstGeom>
          <a:ln w="0">
            <a:noFill/>
          </a:ln>
        </p:spPr>
      </p:pic>
      <p:pic>
        <p:nvPicPr>
          <p:cNvPr id="389" name="Title 3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0" name="Content Placeholder 4"/>
          <p:cNvSpPr/>
          <p:nvPr/>
        </p:nvSpPr>
        <p:spPr>
          <a:xfrm>
            <a:off x="304920" y="1447920"/>
            <a:ext cx="4038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4"/>
          <p:cNvSpPr/>
          <p:nvPr/>
        </p:nvSpPr>
        <p:spPr>
          <a:xfrm>
            <a:off x="152280" y="1295280"/>
            <a:ext cx="48769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d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PM de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Engine Rough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rb. Heat Enriches Mix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Carb. Heat at low pow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Carb. Ice present, carb. heat will lead to RPM decrease, then RPM increase as ice me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Reciprocating Engin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our Stroke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ntak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mpress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79480" indent="-51444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Exhaust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3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5477040" y="1228680"/>
            <a:ext cx="336204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04920" y="1481040"/>
            <a:ext cx="4495680" cy="499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Sans Unicode"/>
              </a:rPr>
              <a:t>Detonation</a:t>
            </a: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Explosive Combustion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Occurs when mixture too lean or fuel grade too low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If detonation is suspected, try enriching the mixture or increasing airspeed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Lucida Sans Unicode"/>
              </a:rPr>
              <a:t>Pre-ignition</a:t>
            </a: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Lucida Sans Unicode"/>
              </a:rPr>
              <a:t>caused by hot spots in cylinder and/or cylinder damage</a:t>
            </a:r>
            <a:endParaRPr b="0" lang="en-US" sz="2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rcRect l="0" t="0" r="0" b="8158"/>
          <a:stretch/>
        </p:blipFill>
        <p:spPr>
          <a:xfrm>
            <a:off x="4952880" y="144792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397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0680"/>
            <a:ext cx="403848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Magnetos provide self sufficient spark to cylinders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Mag. Check during runup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Engine will run with electrical system off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Two spark plugs per cylinder</a:t>
            </a:r>
            <a:endParaRPr b="0" lang="en-US" sz="26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4343400" y="3809880"/>
            <a:ext cx="4648320" cy="270036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3"/>
          <a:stretch/>
        </p:blipFill>
        <p:spPr>
          <a:xfrm>
            <a:off x="4786200" y="1428840"/>
            <a:ext cx="3810240" cy="20001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4"/>
          <a:srcRect l="3577" t="0" r="0" b="0"/>
          <a:stretch/>
        </p:blipFill>
        <p:spPr>
          <a:xfrm>
            <a:off x="1447920" y="4724280"/>
            <a:ext cx="1566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0680"/>
            <a:ext cx="403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Functions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Lubrication of the engine’s moving par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ooling of the engine by reducing friction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Lucida Sans Unicode"/>
              </a:rPr>
              <a:t>Removing heat from the cylinder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roviding a seal between the cylinder walls and piston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Carrying away contaminant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4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4648320" y="3902040"/>
            <a:ext cx="4038480" cy="2651040"/>
          </a:xfrm>
          <a:prstGeom prst="rect">
            <a:avLst/>
          </a:prstGeom>
          <a:ln w="0">
            <a:noFill/>
          </a:ln>
        </p:spPr>
      </p:pic>
      <p:sp>
        <p:nvSpPr>
          <p:cNvPr id="406" name="Content Placeholder 4"/>
          <p:cNvSpPr/>
          <p:nvPr/>
        </p:nvSpPr>
        <p:spPr>
          <a:xfrm>
            <a:off x="4419720" y="1447920"/>
            <a:ext cx="4495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lways check oil pressure immediately after starting eng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onitor oil temperature/pressure during f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905200" cy="2819520"/>
          </a:xfrm>
          <a:prstGeom prst="rect">
            <a:avLst/>
          </a:prstGeom>
          <a:ln w="0">
            <a:noFill/>
          </a:ln>
        </p:spPr>
      </p:pic>
      <p:pic>
        <p:nvPicPr>
          <p:cNvPr id="408" name="Title 3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3"/>
          <a:stretch/>
        </p:blipFill>
        <p:spPr>
          <a:xfrm>
            <a:off x="5943600" y="4572000"/>
            <a:ext cx="2867040" cy="1943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Fixed Pitch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Throttl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s RPM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Constant Speed: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Throttle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s power output (manifold pressure)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Lucida Sans Unicode"/>
              </a:rPr>
              <a:t>Propelle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control regulates engine RP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in turn regulates propeller RPM via automatic pitch change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8:34:42Z</dcterms:created>
  <dc:creator> JasonM</dc:creator>
  <dc:description/>
  <dc:language>en-US</dc:language>
  <cp:lastModifiedBy> JasonM</cp:lastModifiedBy>
  <dcterms:modified xsi:type="dcterms:W3CDTF">2009-11-12T03:17:37Z</dcterms:modified>
  <cp:revision>27</cp:revision>
  <dc:subject/>
  <dc:title>Slide 1</dc:title>
</cp:coreProperties>
</file>