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790-8B9F-4552-B925-89CBD4B2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4187-B082-4B17-9254-3FFDF307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0AA-F9E3-47EF-80EA-3AB81BD0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CA5-8496-4FCA-89A1-33C7F9DE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E51-6F21-4CB5-9244-5AF0BCA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459-FADB-4A59-BA48-0EE17A5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760-D9A9-44D3-B60A-EC143C3F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7A9-46AC-4AF8-8388-4565CEB2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247-3409-4620-ACE1-CC915D4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49E-4A84-4F2F-8A1C-FA1CB6C0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CF81-A5AD-4F5D-A8CD-E059956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0B3-A7D2-42A4-B3EE-58089877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8EDD-D5E6-4F89-AA4C-ACAA40859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x Airplane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tractable landing gear and   controllable-pitch prope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d log groun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igh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 endorsement certifying proficiency in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-performance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gt; 200 horsepower 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d log ground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ight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eive an endorsement certifying proficiency in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800600" y="1295280"/>
            <a:ext cx="118584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57800" y="4114800"/>
            <a:ext cx="31669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plan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eronautical knowled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rea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isfactory completion of practica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3733920" cy="2722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876920" y="1371600"/>
            <a:ext cx="41148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Ratings and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engine 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eronautical knowledge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rsement attesting competency in area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isfactory completion of practical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3294000" cy="22809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35812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tional Pilot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rcial Pilot Certif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nowledg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al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ircraft must be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50 total hours of fligh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 hours of pilot-in-comm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 hours of cross country pilot-in-command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 hours of fligh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training in a complex air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instrument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day VFR cross country of at least 2 hours and 100nm straight-lin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night VFR cross country of at least 2 hours and 100nm straight-lin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hours of solo f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e cross country of at least 300nm, a 250nm straight-line distance, and landings at a minimum of thre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 hours of night VFR, including 10 takeoffs and 10 lan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365292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21:18:02Z</dcterms:created>
  <dc:creator> </dc:creator>
  <dc:description/>
  <dc:language>en-US</dc:language>
  <cp:lastModifiedBy>Jeremy Katz</cp:lastModifiedBy>
  <dcterms:modified xsi:type="dcterms:W3CDTF">2008-03-18T23:43:49Z</dcterms:modified>
  <cp:revision>10</cp:revision>
  <dc:subject/>
  <dc:title>Slide 1</dc:title>
</cp:coreProperties>
</file>