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C8BD-E7EC-4718-8D5B-825E1B86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BB8A-12BA-44AD-96A3-5C0850B3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F34-E57A-45AF-8B67-E303325B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656-8E57-4C1C-ADE8-A18C8CEC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2A8B-E782-4D35-B8B3-2368B33F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3DE-13DF-48BB-B58F-D51CB282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A85-BB6F-402A-A1A8-3D46A3DD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D27-B2A7-4EC7-9C58-77E2E066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D40-5D2A-4029-98C4-9CC568AC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70E-F534-4610-A389-88BB9A70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8C73-5F86-431F-9777-614B4A03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4B20-3A33-49C4-B480-D2CC236B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E150-E044-4814-ABFC-1D05279B5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o I Become a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rtificated Flight Instruct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vileges and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 students towards a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re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ment (with instrument rating on instructor certific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FI (requires 24 months and 200 hours as CF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-engine (with multi on instructor cert. and 5 hours in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P (with ATP certific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 student pilots for solo privile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ddition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ight re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itions to new air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quirements and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ment 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owledge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eronautical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damentals of Instru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actical Test with FAA Inspector (first time only) or Exam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ximate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 hours of ground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 hours of flight training in a complex air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o Private and Commercial Certificate while te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ctor acts as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in training (e.g. Cessna 17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starting trai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proficient at commercial maneu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omfortable flying from right s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knowledge tests out of th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’t need an instructor sign-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d a 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is knowledge he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practical t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 2 hours of 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 than 1 hour of f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now material and know where to look up answ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confident but not co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pector will ask trick questions or say incorrect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t mistakes and look up what you’re unsur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21:18:02Z</dcterms:created>
  <dc:creator> </dc:creator>
  <dc:description/>
  <dc:language>en-US</dc:language>
  <cp:lastModifiedBy>Jeremy Katz</cp:lastModifiedBy>
  <dcterms:modified xsi:type="dcterms:W3CDTF">2008-03-18T23:45:31Z</dcterms:modified>
  <cp:revision>15</cp:revision>
  <dc:subject/>
  <dc:title>Slide 1</dc:title>
</cp:coreProperties>
</file>