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3C8F-3223-4B94-9AE2-576DE958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6A64-7483-4B88-9D31-22EE345B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B30-9C4D-4F87-BFDA-859151BC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4B0-7B80-47C5-A2A6-B59EB4DE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3978-25E4-4481-80BE-6165EBB7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322-6A5A-47BC-95B5-47FB7BD4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623-0FB2-415D-9443-F6235288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90D-4B2A-4542-9CBB-F97B383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905-CCB2-4492-A9BB-9D34A6B1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1343-A11B-4178-BDFD-ADF52C33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284-1B9D-4482-BBF5-37B37283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9DE-1ED0-4B36-8355-39432168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9F0D-9FA8-4CE7-B5A1-6923D5CE1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itle 5"/>
          <p:cNvGrpSpPr/>
          <p:nvPr/>
        </p:nvGrpSpPr>
        <p:grpSpPr>
          <a:xfrm>
            <a:off x="2401920" y="3164040"/>
            <a:ext cx="6761160" cy="1682640"/>
            <a:chOff x="2401920" y="3164040"/>
            <a:chExt cx="6761160" cy="1682640"/>
          </a:xfrm>
        </p:grpSpPr>
        <p:pic>
          <p:nvPicPr>
            <p:cNvPr id="43" name="Title 5" descr=""/>
            <p:cNvPicPr/>
            <p:nvPr/>
          </p:nvPicPr>
          <p:blipFill>
            <a:blip r:embed="rId1"/>
            <a:stretch/>
          </p:blipFill>
          <p:spPr>
            <a:xfrm>
              <a:off x="2401920" y="3164040"/>
              <a:ext cx="6761160" cy="16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438280" y="3200400"/>
              <a:ext cx="655344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lying in the U.S.</a:t>
              </a:r>
              <a:br>
                <a:rPr sz="4400"/>
              </a:b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for non-U.S. citize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8" descr="tsa_logo.bmp"/>
          <p:cNvPicPr/>
          <p:nvPr/>
        </p:nvPicPr>
        <p:blipFill>
          <a:blip r:embed="rId2"/>
          <a:stretch/>
        </p:blipFill>
        <p:spPr>
          <a:xfrm>
            <a:off x="743040" y="987480"/>
            <a:ext cx="3597120" cy="2371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FAA_Logo_Color.gif"/>
          <p:cNvPicPr/>
          <p:nvPr/>
        </p:nvPicPr>
        <p:blipFill>
          <a:blip r:embed="rId3"/>
          <a:stretch/>
        </p:blipFill>
        <p:spPr>
          <a:xfrm>
            <a:off x="6394320" y="401760"/>
            <a:ext cx="2359080" cy="3043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09480" y="518148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ining in the U.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eign license con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Image 1.png"/>
          <p:cNvPicPr/>
          <p:nvPr/>
        </p:nvPicPr>
        <p:blipFill>
          <a:blip r:embed="rId4"/>
          <a:stretch/>
        </p:blipFill>
        <p:spPr>
          <a:xfrm>
            <a:off x="609480" y="3505320"/>
            <a:ext cx="24004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ships, balloons, and glider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ight review and proficiency check, or tailwheel, high-performance, and complex endorsements are ex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 pilot must h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visitor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1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2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flight cr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3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—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egory 4 – Aircraf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2,500 lbs for recurrent training if you are current and qualified in the aircraft you want to train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ful resour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ial website: </a:t>
            </a: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flightschoolcandidates.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SP.Help@dhs.gov  — Phone (571) 227-45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fbfbf"/>
                </a:solidFill>
                <a:latin typeface="Arial"/>
              </a:rPr>
              <a:t>http://www.aopa.org/tsa_rule/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lots of information in pla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ining in the U.S. – “TSA Rule”</a:t>
            </a:r>
            <a:br>
              <a:rPr sz="44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co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egory 3 – Training for sport, recreational, and private pilot certificates, or instrument and multiengine ratings, aircrafts under 12,500 lb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/school registers with TSA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lightschoolcandidates.gov/fsindex.html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resents current valid pass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registers and applies for training with TSA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http://www.flightschoolcandidates.gov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ructor confirms student’s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ays TSA $130 processing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preliminary decision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submits fingerprints to TSA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1300" spc="-1" strike="noStrike">
                <a:solidFill>
                  <a:srgbClr val="bfbfbf"/>
                </a:solidFill>
                <a:latin typeface="Arial"/>
              </a:rPr>
              <a:t>http://www.tsc-csc.com/printoffices/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 for list of locations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osest one Providence airport, business hours; or Terryville, CT (anytime with appointment) –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confirms receipt of fingerprints and fee and allows flight training to beg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udent photo taken on first day of flight training and sent to T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A notifies instructor if training needs to sto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ining must start within 6 months of approval and be completed within 1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gerprinting is once and fo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 rot="16200000">
            <a:off x="7993080" y="56955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Source: aop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6363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verting from a foreign licen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cense needs to be from International Civil Aviation Org. (ICAO) cou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background check, fingerprinting, TSA registration, or othe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for U.S. medical certificate (U.S. medical ca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e us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prove English proficiency for radio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need to take FAA (written) knowledge tes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xcept for IFR: instrument foreign pilot (IFP)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A license will be dependant on the the foreign license and medic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you only need to keep one license and medical curr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 from FAA a verification of the authenticity and currency of your foreign licens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licenses_certificates/airmen_certification/foreign_license_verificati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 and Australia pilots need to contact their civil aviation authority prior to requesting the ver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A will send you a letter once this is complete (&lt; 3 months) and will mail a copy to the FSDO you have chos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ll out FAA form 8710-1 –</a:t>
            </a: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 http://forms.faa.gov/forms/faa8710-1a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then have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 months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 visit the FSDO with all your documents and FAA form to get your FAA “restricted” certificate issued – call ahead of time</a:t>
            </a:r>
            <a:br>
              <a:rPr sz="1400"/>
            </a:b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http://www.faa.gov/about/office_org/field_offices/fsdo/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Lexington, MA, near KB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foreign license of any level (private, commercial, ATP) will be converted into FAA private only (except Canada, by taking a knowledge t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.S. instructors/FBOs tend 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ke converted licens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600" y="6611760"/>
            <a:ext cx="434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For information only: regulations may change! Check with FAA/TSA/AOP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"/>
          <p:cNvSpPr/>
          <p:nvPr/>
        </p:nvSpPr>
        <p:spPr>
          <a:xfrm rot="16200000">
            <a:off x="8020080" y="577872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bfbfbf"/>
                </a:solidFill>
                <a:latin typeface="Arial"/>
              </a:rPr>
              <a:t>Sources: FAA, AO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21:28Z</dcterms:created>
  <dc:creator> </dc:creator>
  <dc:description/>
  <dc:language>en-US</dc:language>
  <cp:lastModifiedBy>Jeremy Katz</cp:lastModifiedBy>
  <dcterms:modified xsi:type="dcterms:W3CDTF">2008-03-19T02:45:25Z</dcterms:modified>
  <cp:revision>31</cp:revision>
  <dc:subject/>
  <dc:title>Slide 1</dc:title>
</cp:coreProperties>
</file>