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DAF-1F02-4A2A-B2EB-3CF9305E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ABD-FF0B-478B-A126-A8BFD2D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D25-24E0-46D4-B88E-FBCFEA23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558-74B0-46AE-8945-6707132E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18E-B9A6-4CED-9AF0-9F31287E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4F3-4B26-459D-9680-8A28CA1C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5D5B-FCEA-428F-BE95-0E5E1F94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80B-33DE-472C-8F81-9190C890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50A-72C0-46FA-84B5-0EF6CDEE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FB82-5E27-4CAB-BBF5-4093F8A4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8E3-8BD3-4BEA-9689-A4314CD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87A-6AC1-48E7-ACCC-3D8548D0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6B01-8AFD-46DC-BFC0-78736DDB7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cro.aerobaticsweb.org/images/super_d2_963x640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erobatic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pecial 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 and Check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10-15 hours of dual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il wheel instruction and endorsement is usually a part of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 an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ise aircraft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very from abnormal attitudes and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95680" y="1143000"/>
            <a:ext cx="3505320" cy="263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495680" y="3886200"/>
            <a:ext cx="44960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4-15T20:44:26Z</dcterms:modified>
  <cp:revision>12</cp:revision>
  <dc:subject/>
  <dc:title>Slide 1</dc:title>
</cp:coreProperties>
</file>