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091-AF4B-4D78-986E-BB66F899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5FD-20CA-471C-B6E4-E88028C7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D4E2-DB27-4AB3-B064-C166A3F6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3B13-3F61-4F6B-BBC5-93E3EA22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2CC7-A500-4B57-9277-5BDA0C26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6CAF-9E54-4BDC-9B67-B393CA64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A61-65FE-45DD-81A4-E9D39EF7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D04-C549-4F8B-B216-03CA93AC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6CA-52BA-4C6B-B0DF-2C8A11C1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1555-1231-41F1-AB56-E183D8E0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52E-E95C-4BB4-9663-613EE57A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623-3183-427A-A6F3-9C381940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3518-55E5-4B61-8B57-4535307BA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G_483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30492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ANNA LEARN TO FL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47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t people to fly wi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05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t to take flying tri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2362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ape C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37339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beyo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8195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artha’s Viney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rovincet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1523880"/>
            <a:ext cx="121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Flying 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876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 SESSION AND MIX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54100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 1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7:30 – 8:30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943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5-225. Food provid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2514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.mit.edu/mitfly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transparent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66688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2:07:01Z</dcterms:created>
  <dc:creator>CJS</dc:creator>
  <dc:description/>
  <dc:language>en-US</dc:language>
  <cp:lastModifiedBy>CJS</cp:lastModifiedBy>
  <dcterms:modified xsi:type="dcterms:W3CDTF">2006-02-25T20:53:34Z</dcterms:modified>
  <cp:revision>5</cp:revision>
  <dc:subject/>
  <dc:title>PowerPoint Presentation</dc:title>
</cp:coreProperties>
</file>