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001-ED24-4483-8E37-96DE919CF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972-175C-4EA4-AF14-CF3E4C2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EC03-6708-48EE-B7CD-636FD6E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17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065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17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065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D99-C772-4EEA-972B-6DE826BB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3E5-65A6-402A-8AAB-9E643461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FCA-8B95-49BC-A2D6-CFBD8974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CAB-E7FD-45A6-ADCD-7DF1369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8672-4462-46D6-A0EC-D9A8E16E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812520"/>
            <a:ext cx="124365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8A7-E65D-4449-83FE-FE3F0EF5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02CD-5BC0-418D-ADA1-280BF0FD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B973-EEAA-43C8-939F-53FFA8D72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33B-654F-4433-8452-CEA8ECCB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 fontScale="90000"/>
          </a:bodyPr>
          <a:p>
            <a:pPr marL="458640" indent="-45864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880" indent="-3816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8560" indent="-30528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214020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656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8331120"/>
            <a:ext cx="463248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2B38B227-5990-427D-9A22-06034E6028BC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1360" y="406440"/>
            <a:ext cx="1219212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 algn="ctr">
              <a:lnSpc>
                <a:spcPct val="100000"/>
              </a:lnSpc>
              <a:spcBef>
                <a:spcPts val="443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440" y="193032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440" y="254016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149640"/>
            <a:ext cx="3414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978440"/>
            <a:ext cx="4510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759120"/>
            <a:ext cx="5243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368960"/>
            <a:ext cx="4144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0" y="2008080"/>
            <a:ext cx="195084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" y="6702480"/>
            <a:ext cx="755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7412040"/>
            <a:ext cx="9264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8123400"/>
            <a:ext cx="658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8520" y="3325680"/>
            <a:ext cx="5121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8458200" y="2209680"/>
            <a:ext cx="36576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11Z</dcterms:modified>
  <cp:revision>6</cp:revision>
  <dc:subject/>
  <dc:title>PowerPoint Presentation</dc:title>
</cp:coreProperties>
</file>