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96F4-459F-49E9-9432-70FE092F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654000"/>
            <a:ext cx="8001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7813-7444-43A5-BD92-AE989A52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65400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65400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857A-1A45-49EF-9905-A50A25AE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06632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06632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65400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65400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65400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18D6-1C68-46F4-9971-F658B31FD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714C-5011-4A7B-AB24-5BEF7DF22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FA1C-2406-4B4F-BCB4-32C61894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8C34-5BAD-4329-B9CA-A191E5FF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C87B-AA03-4161-A1D5-5AC97109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33F5-030C-4B09-83E7-CB48247C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560"/>
            <a:ext cx="80010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EDEB-F185-42A3-B66E-699CE168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65400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B639-8EC2-4A93-8AAA-92F91FD1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46D6-1FFC-477D-B5EF-41F3FB4D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65400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355B-0A12-4D53-9EA9-BDC63DAE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654000"/>
            <a:ext cx="8001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C47D-5E03-448D-9ACF-549F2546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654000"/>
            <a:ext cx="8001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3E0B-E811-4EA9-A340-86A76601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65400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65400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91C6-ECD3-4FBE-B6B2-8F7FB4756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06632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06632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65400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65400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65400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7D25-99DB-4938-86CF-E39B7A522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5B07-CA36-45DA-A3CA-D9E5FCDD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4812-B548-4A97-9978-AC389643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1349-10CC-4B5E-9176-34E89F66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560"/>
            <a:ext cx="80010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A0C8-78DF-45E3-85E3-BFC0BA1C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65400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4668-1285-4564-90DE-E2B5C8B1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65400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0F09-F426-4CD8-A8FB-D91349F6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654000"/>
            <a:ext cx="8001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CBB6-2F0B-40F8-9FD7-B66E1BE7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52320" y="91440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967B-4BD5-4BB0-A73E-51DA97A2429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8165-C390-479A-99A1-EC813E79EAB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34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56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ircraft Performan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ITFC Ground Sch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anuary 13, 2010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mbing Fl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of excess power to push plane upwar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cess power drives climb r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cess thrust drives climb ang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827600" y="2743200"/>
            <a:ext cx="4316400" cy="3313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57200" y="2819520"/>
            <a:ext cx="426708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mb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209680" y="762120"/>
            <a:ext cx="4829400" cy="64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keoff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4157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nway Conditions: B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t runway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a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ffects of Wi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adwind = reduced takeoff dist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ilwind = increased takeoff distanc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osswi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 of wind in direction perpendicular to aircraft dire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ircraft have crosswind limi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484520" y="1106640"/>
            <a:ext cx="4735800" cy="63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keoff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90720" y="1177920"/>
            <a:ext cx="708660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-Sp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S – True Airspe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AS – Indicated Airspe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_s1 – Stall speed in standard configu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_x - Best Angle of Climb Airspe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_y – Best Rate of Climb Airspe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_a – Maneuvering speed (max deflection of controls saf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_ne – Never Exceed Airspe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mospheric Proper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0666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ircraft performance charts referenced to ICAO Standard Atmosphe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 Press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9.92 in Hg (14.7 psi) at surfa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creases 1 in Hg per 1000 f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 Tempera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5°C at surfa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creases 2°C per 1000 f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justments given for non-standard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sure Altitu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nsity Altitu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ssure Altitu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titude in the standard atmosphere that corresponds to the current outside press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the altimeter sen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timeter is corrected to “actual” altitude via altimeter settings, which are broadcasted by airpor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culated b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tting your altimeter to 29.92 “Hg and reading altitu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ying a correction factor to the current altitude based on your altimeter set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nsity Altitude (DA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sure altitude corrected for variations in tempera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titude in the standard atmosphere that corresponds to the current outside air dens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nsity (mass/volume) is affected by altitude, temperature, and humid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ful when describing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er pressure = higher 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er temperature = higher 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er DA = lower aircraft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duced lifting medium for w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ircraft stalls at higher spee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gine power is reduc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ed plainly, higher DA means lower density, or less air molecules to work wi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titude Calc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776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d Pressure and Density Altitu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timeter setting is 30.1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 airport at 4200 f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29.92-30.12)*1000 = -200 ft plus 4,200 = 4000  …or…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wist altimeter setting to 29.92, and find that the pressure altitude is 4,000 f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sed on an OAT of 16C, what is Density Altitud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,000 f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0" t="8892" r="25004" b="0"/>
          <a:stretch/>
        </p:blipFill>
        <p:spPr>
          <a:xfrm>
            <a:off x="4343400" y="990720"/>
            <a:ext cx="45720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ircraft Dra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4157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asite Dra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duced by aircraft as it moves through ai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reases with square of airspe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uced Dra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rag created by lif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reases at high Angle of Attack/Lower Airspe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520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gine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640" y="1066320"/>
            <a:ext cx="4081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mon 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C (internal combusio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3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st GA Aircraf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3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urbopro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urbofa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wer decreases with density altitu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rust decreases with airspeed (propeller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riable pitch propellers (constant speed prop) offer better propeller efficiency over wider ran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sic GA aircraft use fixed-pitch pro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743360" y="1371600"/>
            <a:ext cx="440064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ady Level Fl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wer = Thrust * Veloc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 Drag * Velocity in steady fligh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propeller aircraft, at a given throttle setting, power approximately constant with spe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ss thrust at higher spee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133720" y="2925720"/>
            <a:ext cx="495288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uise Fl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90720" y="1160640"/>
            <a:ext cx="708660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20:12:00Z</dcterms:created>
  <dc:creator>JL</dc:creator>
  <dc:description/>
  <dc:language>en-US</dc:language>
  <cp:lastModifiedBy>Jonathan </cp:lastModifiedBy>
  <dcterms:modified xsi:type="dcterms:W3CDTF">2010-01-13T23:02:29Z</dcterms:modified>
  <cp:revision>4</cp:revision>
  <dc:subject/>
  <dc:title>Aircraft Performance</dc:title>
</cp:coreProperties>
</file>