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wmf" ContentType="image/x-wmf"/>
  <Override PartName="/ppt/media/image3.gif" ContentType="image/gif"/>
  <Override PartName="/ppt/media/image20.jpeg" ContentType="image/jpeg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5.gif" ContentType="image/gi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AE3-6A41-40E3-A5F8-ED2898B3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4E0-9198-490B-AE5C-D354591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D53-AB48-4A73-800C-1B37D245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E0F-18CA-4841-B18D-4D2C1CAB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6E1C-545A-426E-911D-203FB4C9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7252-DD8E-4C6A-8FD3-779A7739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305E-A2C5-4A14-91A5-E82D867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AF16-B5B5-4179-A44A-ED6B629C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D44-9360-493C-A5E4-096D64DC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D292-A3D4-47D8-B1B5-3A5D61B5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1773-6DDD-48ED-A4F1-81BF2E0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F7E-53ED-4156-A22D-94206B0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ED4C-1B9A-4625-ACDF-1F37C967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07DB-711B-4C29-9243-70B3811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5576-0CC7-4007-BB86-E848BD4B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E8B-7B52-4EA2-8602-AE4C3352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9F2E-AABF-482D-8C9B-F8C4F93C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E59-A849-4562-A0E6-469BDA51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0AC-EB7D-4242-804F-20053AC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643-3BF4-4EE5-8EA5-C275813B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647-BAB1-4FA1-9A0F-065AA64B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73A-00AE-47D2-BB95-40D84300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926-D3C9-4402-82EE-01D60E7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9D0-986B-4BB3-8375-B315005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B6E3-2361-48BF-AF09-D1979C4875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15F3-9383-43ED-A3E4-5A86C11B95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c.nasa.gov/WWW/K-12/airplane/pitch.html" TargetMode="External"/><Relationship Id="rId2" Type="http://schemas.openxmlformats.org/officeDocument/2006/relationships/hyperlink" Target="http://www.grc.nasa.gov/WWW/K-12/airplane/roll.html" TargetMode="External"/><Relationship Id="rId3" Type="http://schemas.openxmlformats.org/officeDocument/2006/relationships/hyperlink" Target="http://www.grc.nasa.gov/WWW/K-12/airplane/yaw.html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elair.selkirk.bc.ca/aerodynamics1/Stability/Page3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bility and Flight Control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ter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longitudin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Roll 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influenc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hed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eep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vs. Low 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324240" cy="3629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324240" cy="3628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creasing Later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91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hed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Dihedral effect on lateral stability"/>
          <p:cNvPicPr/>
          <p:nvPr/>
        </p:nvPicPr>
        <p:blipFill>
          <a:blip r:embed="rId2"/>
          <a:stretch/>
        </p:blipFill>
        <p:spPr>
          <a:xfrm>
            <a:off x="4724280" y="1905120"/>
            <a:ext cx="3829320" cy="4209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1295280"/>
            <a:ext cx="41911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g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1460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76440" y="4219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ion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vertic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uenced by size and location of vertical stabil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weather vane or feathers on an ar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certain angle of attack airflow cannot “stick” to top of 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 flow separation occ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865160"/>
            <a:ext cx="4038480" cy="4000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critical angle of attack” does not change for a given 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loss of lift when stal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l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-22 Stal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86200" cy="3640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i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oordinated stalls result in sp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wings are stalled, 1 wing “more” stalled than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ing helical downward 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to recover from in Cessna 1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on’t have to do this during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erodynamics of Maneuvering Fligh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mb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plane climbs due to inclined thrus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still in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e at which airplane climbs determined by excess thr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ft Turning Tendenc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 F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ing Slip Stre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yroscopic Prec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not always a left turning tend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554"/>
          <a:stretch/>
        </p:blipFill>
        <p:spPr>
          <a:xfrm>
            <a:off x="4419720" y="14479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scend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plane descends when flight path is pointed down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still in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e Axes of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itudinal (gre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e to 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al (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g tip to Wing t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(r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to bot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475160" cy="33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3505320"/>
            <a:ext cx="457200" cy="1981080"/>
          </a:xfrm>
          <a:custGeom>
            <a:avLst/>
            <a:gdLst>
              <a:gd name="textAreaLeft" fmla="*/ 61200 w 457200"/>
              <a:gd name="textAreaRight" fmla="*/ 396000 w 45720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800600"/>
            <a:ext cx="190476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urn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izontal component of lift turns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dder is used to maintain co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not in equilibrium, this is accelerated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3950"/>
          <a:stretch/>
        </p:blipFill>
        <p:spPr>
          <a:xfrm>
            <a:off x="4648320" y="1935000"/>
            <a:ext cx="4038480" cy="3708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ad Fa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o of weight supported by wings to weight of airc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as G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ad factor of 2, or 2 G’s means wings support twice aircraft w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 load factor increases stall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0" b="5097"/>
          <a:stretch/>
        </p:blipFill>
        <p:spPr>
          <a:xfrm>
            <a:off x="5105520" y="1371600"/>
            <a:ext cx="3429000" cy="3070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715000" y="4572000"/>
                <a:ext cx="1986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81040" y="1486080"/>
            <a:ext cx="618012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Flight Contr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440" y="10663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P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later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R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longitudin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aile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vertic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ru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Computer animation of an airliner in which the wings&#10; moves up and down in response to changing the aileron angle."/>
          <p:cNvPicPr/>
          <p:nvPr/>
        </p:nvPicPr>
        <p:blipFill>
          <a:blip r:embed="rId4"/>
          <a:stretch/>
        </p:blipFill>
        <p:spPr>
          <a:xfrm>
            <a:off x="380880" y="2666880"/>
            <a:ext cx="2438640" cy="196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omputer animation of an airliner in which the nose&#10; moves up and down in response to changing the elevator angle."/>
          <p:cNvPicPr/>
          <p:nvPr/>
        </p:nvPicPr>
        <p:blipFill>
          <a:blip r:embed="rId5"/>
          <a:stretch/>
        </p:blipFill>
        <p:spPr>
          <a:xfrm>
            <a:off x="304920" y="990720"/>
            <a:ext cx="2438280" cy="196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omputer animation of an airliner in which the nose&#10; moves side to side in response to changing the rudder angle."/>
          <p:cNvPicPr/>
          <p:nvPr/>
        </p:nvPicPr>
        <p:blipFill>
          <a:blip r:embed="rId6"/>
          <a:stretch/>
        </p:blipFill>
        <p:spPr>
          <a:xfrm>
            <a:off x="380880" y="4299120"/>
            <a:ext cx="2438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erse Yaw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or why we have a Rudder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ced dra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in lift = increase in dr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want to roll to l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ke turns to le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ft aileron goes up, right aileron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wing develops more lift, therefore more dr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Plane tries to yaw in opposite direction to r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184560" cy="419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(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returns to starting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remains in new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ative (un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moves away from starting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180" r="0" b="0"/>
          <a:stretch/>
        </p:blipFill>
        <p:spPr>
          <a:xfrm>
            <a:off x="4686480" y="2592360"/>
            <a:ext cx="3848040" cy="30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Stability (continue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514600" cy="152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572000"/>
            <a:ext cx="2590920" cy="157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2590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ynamic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decrease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are constant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increase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are all types of Positive Stat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Link to animation of dynamic longitudin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0" y="1523880"/>
          <a:ext cx="4241880" cy="440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2418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itudin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later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Pitch 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t on location of Center of Gr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 too far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(too s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 too far 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ll Recovery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 39 Gripen Cras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 39 Gripen Cras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343400" y="3581280"/>
          <a:ext cx="449568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581280"/>
                    <a:ext cx="44956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8288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447920"/>
            <a:ext cx="1523880" cy="83808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6094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ch up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66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ch down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16765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2163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19920" y="1523880"/>
            <a:ext cx="1447560" cy="5335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1219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6:28:10Z</dcterms:created>
  <dc:creator>JL</dc:creator>
  <dc:description/>
  <dc:language>en-US</dc:language>
  <cp:lastModifiedBy>JL</cp:lastModifiedBy>
  <dcterms:modified xsi:type="dcterms:W3CDTF">2010-02-12T00:16:05Z</dcterms:modified>
  <cp:revision>4</cp:revision>
  <dc:subject/>
  <dc:title>Slide 1</dc:title>
</cp:coreProperties>
</file>