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3.png" ContentType="image/png"/>
  <Override PartName="/ppt/media/image2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8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30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78442-854C-49E5-B078-BB04184C4A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E77B7-D9C1-4593-A78F-B298119C52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94A88-CB75-4A90-8831-923A7BD6CE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F710-C333-4D89-B7F4-8251538D5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D761-CA49-454C-B56F-A16C3EBE8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957C-45A5-426A-A58A-4AFCDF9C4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BAB4-4813-47E5-8EC2-5D23ABE68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06313-0915-4C7F-B2E4-D80CE61AB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3D1B5-1B38-4C52-9090-437E2208F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CE0FD-9926-4824-8895-CF2F880E0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F597F-FD80-4D36-9534-21CC4AAE5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A34D8-C9E3-4FBD-B1A7-FA3560BD0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A817C-6EA3-4A04-B3BD-598654CBB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DC2F8-4DDA-4920-BB92-E45E010B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027D-0F38-4BA3-AAEA-8565D914E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4D249-188D-47E8-A989-1961E8D5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8E334-8C2E-4A94-B7D5-D08CF4BD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D7E11-9512-4C24-AADE-B3D345BF5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C13AC-E162-4F14-B76D-5D3B5A3AF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67670-D2D5-4DDA-9C7D-D313B6996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237AA-83FA-42FE-8B3F-F16B386CF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2599D-A1B4-415D-8E4F-8C689A5D3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FBFB3-3AED-4BF1-A6B7-9AC915FBE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40FA5-21AB-4F14-9659-6F65AD197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D5752-2247-4AE4-87B0-78BA91D61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AE14-DAB7-4632-918B-7FB83AE8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765C9-2040-4D59-BAE5-F13EF2652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22D71-FC16-4BB8-B245-8D3B9EB0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D7E59-2B44-4D6D-853C-6FAA13AB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ECD1F-34D4-49AC-AB7B-5264138A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9F330-70B7-4732-877E-8C84AD7D0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F40D4-A88C-41F0-BB91-59034345C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6A097-1E84-46C9-A30E-A49AFE5C9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CF3E2-EE62-45C6-B013-9682AD501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E4A1D-4245-4555-B1E5-928BBDB72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23B91-A599-4FCE-8484-85C8B0FC2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C993-BA5A-4433-9FE6-F6A2A7947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510B1-15EC-4F28-9A39-6145E9DEB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92DE5-88E6-4999-BFF2-A62668731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7299D-2429-4259-B9EC-5FA051141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B2E03-1324-41A9-8735-A09344DA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4B535-8523-40C4-858C-C1D5E89C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78397-1236-40D3-9CFE-73563295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2EEFD-1591-4250-B32D-F7E0E6F87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3693D-42E7-4DA2-8C41-1FE3CF39E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ABA1E-17E8-4FB0-B572-1AA989D90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482DC-56D7-4032-B81F-02ED66BE8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6FAD-766E-45C5-95C0-28AABE4AC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C065B-8FC2-49FE-8AB5-DF685BC5E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A1903-8D4D-42BC-B71F-AA6CB3121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52853-47D1-4923-B352-A7291B5E8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F7323-B26B-4E0D-B5A5-1D49C016F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1587D-0CD6-4C4A-815F-CE396852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7D2A4-177F-4F3F-AA69-63F24788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01CE4-9506-41DF-9099-193F5AE4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568AB-A4D3-4892-9759-C123D43D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7488B-348C-4F44-A8F5-4BB62AB6A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9A727-96CA-4136-9DE0-CCE1B7695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19F2-4FC8-4A1F-8CDF-843945C1E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9F15D-487F-4DDF-909C-9878849B4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23CBB-DA4B-4B12-8CD9-A79E54DAD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A3DFD-ACFC-4B10-B1C8-58C039FAE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A6BEF-315A-40D5-B15A-F362064D4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980AE-031C-4F7F-AA66-1E11E8DDC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6E598-1EEB-4AEC-806F-80414BDBB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4045F-6752-4C04-AFA2-9D65FED7F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30814-8A4A-46BF-BCD9-739DEEA3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CB310-DF24-4602-A002-3577DE67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2BB55-DC9F-4857-A3C1-8984C264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A6FC-6EE5-4C8E-BA99-9672B543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9DAFD-D888-4491-B0DC-544B025C9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BFE7E-4F72-4038-8FA3-26C5A9659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A27E3-DCC4-4E0B-B496-1ED987DE0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64B49-F338-4CE6-B37E-8CB261794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EBE3A-966F-4165-A577-3E3530774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C5832-60F5-4725-B3A7-E27BB95CE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39A1E-E7F6-4423-A554-74E16A1D1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9FC00-1980-4323-A1DA-F42332620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C2488-31BE-485F-90C8-31DEBD0B0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4EAE2C-76E5-402D-A812-6DBEC0DD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5016-2129-472A-9AAA-997E5954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5D5C5-6734-4D21-AA22-AAD50823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332AF-F920-4FC4-AD45-8D08BF02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01ADE-BD9A-4D13-985C-E733BF30F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7C338-2806-4578-BE7F-BED46A3B7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FB03E-06C0-446E-9C5B-BE74C2FF5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31B638-B7F4-41D2-B770-A7A4FE76D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B83B0E-A34B-4ED2-87E3-B4DAAE3AA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9A07A4-FD54-481B-B3F0-52A62E5FF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789980-0626-474C-BFD9-0865E62AE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65112F-379F-49D5-B9B5-39769CDF6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0985-687F-49FB-8924-7FE66A78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134DA7-1088-4242-9758-18ACCED97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61EBC1-FD2F-4B86-AE9C-88C39C29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BF6E35-7BD9-4B23-BA2D-B4A7B91E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350C1E-92C8-420A-BA11-3AC22AE0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55DC21-E2A9-4C73-96D1-DCB0D4BAF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D88A8E-E703-49AD-AA1D-87C82FF93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06D52E-D924-4BCE-A86F-0ABF1DA46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72C7D-7986-41B7-AF54-F92F30B703E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9B476-F378-4E3D-9A07-91100685634D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32111-742A-4FB5-82E2-EC2923EAAF09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0649D-7B5B-4374-B5B7-0C650719C7E9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115DF-27C5-4EA1-ACD9-6046070C837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F19AF-BD48-45BF-9C8F-7B220C71EC74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1032D-DDA5-444B-B037-6D95C34F964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9FF83-FAC9-402B-9358-045C1570CFCD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64646"/>
                </a:solidFill>
                <a:latin typeface="Lucida Sans Unicode"/>
              </a:rPr>
              <a:t>MITFC Ground School</a:t>
            </a:r>
            <a:br>
              <a:rPr sz="2500"/>
            </a:br>
            <a:r>
              <a:rPr b="0" lang="en-US" sz="2500" spc="-1" strike="noStrike">
                <a:solidFill>
                  <a:srgbClr val="464646"/>
                </a:solidFill>
                <a:latin typeface="Lucida Sans Unicode"/>
              </a:rPr>
              <a:t>Fall 2009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64646"/>
                </a:solidFill>
                <a:latin typeface="Lucida Sans Unicode"/>
              </a:rPr>
              <a:t>Jason Maloney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2" descr=""/>
          <p:cNvPicPr/>
          <p:nvPr/>
        </p:nvPicPr>
        <p:blipFill>
          <a:blip r:embed="rId1"/>
          <a:srcRect l="0" t="0" r="0" b="14761"/>
          <a:stretch/>
        </p:blipFill>
        <p:spPr>
          <a:xfrm>
            <a:off x="5149800" y="1371600"/>
            <a:ext cx="3587760" cy="243828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380520" y="1600200"/>
            <a:ext cx="40388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Tricycle landing gear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Tail wheel / Conventional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Pilot must log ground instruction and receive endorsement from CFI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13" name="Title 3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4" descr=""/>
          <p:cNvPicPr/>
          <p:nvPr/>
        </p:nvPicPr>
        <p:blipFill>
          <a:blip r:embed="rId3"/>
          <a:srcRect l="0" t="0" r="0" b="6316"/>
          <a:stretch/>
        </p:blipFill>
        <p:spPr>
          <a:xfrm>
            <a:off x="5151600" y="4038480"/>
            <a:ext cx="35748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Non-flashing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Position Lights required for Night Flight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16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3" descr=""/>
          <p:cNvPicPr/>
          <p:nvPr/>
        </p:nvPicPr>
        <p:blipFill>
          <a:blip r:embed="rId2"/>
          <a:stretch/>
        </p:blipFill>
        <p:spPr>
          <a:xfrm>
            <a:off x="4653000" y="1914480"/>
            <a:ext cx="3962520" cy="4029120"/>
          </a:xfrm>
          <a:prstGeom prst="rect">
            <a:avLst/>
          </a:prstGeom>
          <a:ln w="158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600200"/>
            <a:ext cx="40384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Sump fuel during preflight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Fill tanks after flight to avoid condensation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0" name="Picture 2" descr=""/>
          <p:cNvPicPr/>
          <p:nvPr/>
        </p:nvPicPr>
        <p:blipFill>
          <a:blip r:embed="rId1"/>
          <a:stretch/>
        </p:blipFill>
        <p:spPr>
          <a:xfrm>
            <a:off x="5181480" y="152280"/>
            <a:ext cx="3429000" cy="6384960"/>
          </a:xfrm>
          <a:prstGeom prst="rect">
            <a:avLst/>
          </a:prstGeom>
          <a:ln w="0">
            <a:noFill/>
          </a:ln>
        </p:spPr>
      </p:pic>
      <p:pic>
        <p:nvPicPr>
          <p:cNvPr id="381" name="Title 3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3" descr=""/>
          <p:cNvPicPr/>
          <p:nvPr/>
        </p:nvPicPr>
        <p:blipFill>
          <a:blip r:embed="rId3"/>
          <a:stretch/>
        </p:blipFill>
        <p:spPr>
          <a:xfrm>
            <a:off x="380880" y="4343400"/>
            <a:ext cx="449604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304920" y="1480680"/>
            <a:ext cx="3581280" cy="51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Fuel/Air Mixture: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Rich – High Fuel/Air ratio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Lean – Low Fuel/Air ratio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Lean the mixture during climb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Enrich the mixture during descent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3962520" y="2077920"/>
            <a:ext cx="5035320" cy="3332160"/>
          </a:xfrm>
          <a:prstGeom prst="rect">
            <a:avLst/>
          </a:prstGeom>
          <a:ln w="0">
            <a:noFill/>
          </a:ln>
        </p:spPr>
      </p:pic>
      <p:pic>
        <p:nvPicPr>
          <p:cNvPr id="385" name="Title 3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86" name="Rectangle 6"/>
          <p:cNvSpPr/>
          <p:nvPr/>
        </p:nvSpPr>
        <p:spPr>
          <a:xfrm>
            <a:off x="3276720" y="5715000"/>
            <a:ext cx="55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High Density Altitude = Low Air Density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lean the mix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2" descr=""/>
          <p:cNvPicPr/>
          <p:nvPr/>
        </p:nvPicPr>
        <p:blipFill>
          <a:blip r:embed="rId1"/>
          <a:srcRect l="0" t="0" r="0" b="10240"/>
          <a:stretch/>
        </p:blipFill>
        <p:spPr>
          <a:xfrm>
            <a:off x="5181480" y="152280"/>
            <a:ext cx="3408480" cy="40417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3" descr=""/>
          <p:cNvPicPr/>
          <p:nvPr/>
        </p:nvPicPr>
        <p:blipFill>
          <a:blip r:embed="rId2"/>
          <a:srcRect l="0" t="0" r="0" b="22350"/>
          <a:stretch/>
        </p:blipFill>
        <p:spPr>
          <a:xfrm>
            <a:off x="5105520" y="4267080"/>
            <a:ext cx="3633840" cy="2476800"/>
          </a:xfrm>
          <a:prstGeom prst="rect">
            <a:avLst/>
          </a:prstGeom>
          <a:ln w="0">
            <a:noFill/>
          </a:ln>
        </p:spPr>
      </p:pic>
      <p:pic>
        <p:nvPicPr>
          <p:cNvPr id="389" name="Title 3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90" name="Content Placeholder 4"/>
          <p:cNvSpPr/>
          <p:nvPr/>
        </p:nvSpPr>
        <p:spPr>
          <a:xfrm>
            <a:off x="304920" y="1447920"/>
            <a:ext cx="4038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Content Placeholder 4"/>
          <p:cNvSpPr/>
          <p:nvPr/>
        </p:nvSpPr>
        <p:spPr>
          <a:xfrm>
            <a:off x="152280" y="1295280"/>
            <a:ext cx="487692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nd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108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RPM decr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108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Engine Rough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arb. Heat Enriches Mix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Use Carb. Heat at low power set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f Carb. Ice present, carb. heat will lead to RPM decrease, then RPM increase as ice me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Reciprocating Eng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Four Strokes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79480" indent="-51444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Intake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79480" indent="-51444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Compression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79480" indent="-51444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Power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79480" indent="-51444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Exhaust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3" name="Title 4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" descr=""/>
          <p:cNvPicPr/>
          <p:nvPr/>
        </p:nvPicPr>
        <p:blipFill>
          <a:blip r:embed="rId2"/>
          <a:stretch/>
        </p:blipFill>
        <p:spPr>
          <a:xfrm>
            <a:off x="5477040" y="1228680"/>
            <a:ext cx="336204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304920" y="1481040"/>
            <a:ext cx="4495680" cy="499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Lucida Sans Unicode"/>
              </a:rPr>
              <a:t>Detonation</a:t>
            </a: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Lucida Sans Unicode"/>
              </a:rPr>
              <a:t>Explosive Combustion</a:t>
            </a:r>
            <a:endParaRPr b="0" lang="en-US" sz="22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Lucida Sans Unicode"/>
              </a:rPr>
              <a:t>Occurs when mixture too lean or fuel grade too low</a:t>
            </a:r>
            <a:endParaRPr b="0" lang="en-US" sz="22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Lucida Sans Unicode"/>
              </a:rPr>
              <a:t>If detonation is suspected, try enriching the mixture or increasing airspeed</a:t>
            </a:r>
            <a:endParaRPr b="0" lang="en-US" sz="2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Lucida Sans Unicode"/>
              </a:rPr>
              <a:t>Pre-ignition</a:t>
            </a: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Lucida Sans Unicode"/>
              </a:rPr>
              <a:t>caused by hot spots in cylinder and/or cylinder damage</a:t>
            </a:r>
            <a:endParaRPr b="0" lang="en-US" sz="2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6" name="Picture 2" descr=""/>
          <p:cNvPicPr/>
          <p:nvPr/>
        </p:nvPicPr>
        <p:blipFill>
          <a:blip r:embed="rId1"/>
          <a:srcRect l="0" t="0" r="0" b="8158"/>
          <a:stretch/>
        </p:blipFill>
        <p:spPr>
          <a:xfrm>
            <a:off x="4952880" y="1447920"/>
            <a:ext cx="3886200" cy="3200400"/>
          </a:xfrm>
          <a:prstGeom prst="rect">
            <a:avLst/>
          </a:prstGeom>
          <a:ln w="0">
            <a:noFill/>
          </a:ln>
        </p:spPr>
      </p:pic>
      <p:pic>
        <p:nvPicPr>
          <p:cNvPr id="397" name="Title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480680"/>
            <a:ext cx="4038480" cy="32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Magnetos provide self sufficient spark to cylinders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Mag. Check during runup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Engine will run with electrical system off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Two spark plugs per cylinder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9" name="Picture 2" descr=""/>
          <p:cNvPicPr/>
          <p:nvPr/>
        </p:nvPicPr>
        <p:blipFill>
          <a:blip r:embed="rId1"/>
          <a:stretch/>
        </p:blipFill>
        <p:spPr>
          <a:xfrm>
            <a:off x="4343400" y="3809880"/>
            <a:ext cx="4648320" cy="2700360"/>
          </a:xfrm>
          <a:prstGeom prst="rect">
            <a:avLst/>
          </a:prstGeom>
          <a:ln w="0">
            <a:noFill/>
          </a:ln>
        </p:spPr>
      </p:pic>
      <p:pic>
        <p:nvPicPr>
          <p:cNvPr id="400" name="Title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" descr=""/>
          <p:cNvPicPr/>
          <p:nvPr/>
        </p:nvPicPr>
        <p:blipFill>
          <a:blip r:embed="rId3"/>
          <a:stretch/>
        </p:blipFill>
        <p:spPr>
          <a:xfrm>
            <a:off x="4786200" y="1428840"/>
            <a:ext cx="3810240" cy="20001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3" descr=""/>
          <p:cNvPicPr/>
          <p:nvPr/>
        </p:nvPicPr>
        <p:blipFill>
          <a:blip r:embed="rId4"/>
          <a:srcRect l="3577" t="0" r="0" b="0"/>
          <a:stretch/>
        </p:blipFill>
        <p:spPr>
          <a:xfrm>
            <a:off x="1447920" y="4724280"/>
            <a:ext cx="1566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0680"/>
            <a:ext cx="40384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Lucida Sans Unicode"/>
              </a:rPr>
              <a:t>Functions: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Lubrication of the engine’s moving parts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Cooling of the engine by reducing friction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Lucida Sans Unicode"/>
              </a:rPr>
              <a:t>Removing heat from the cylinders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Providing a seal between the cylinder walls and pistons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Carrying away contaminants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4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2" descr=""/>
          <p:cNvPicPr/>
          <p:nvPr/>
        </p:nvPicPr>
        <p:blipFill>
          <a:blip r:embed="rId2"/>
          <a:stretch/>
        </p:blipFill>
        <p:spPr>
          <a:xfrm>
            <a:off x="4648320" y="3902040"/>
            <a:ext cx="4038480" cy="2651040"/>
          </a:xfrm>
          <a:prstGeom prst="rect">
            <a:avLst/>
          </a:prstGeom>
          <a:ln w="0">
            <a:noFill/>
          </a:ln>
        </p:spPr>
      </p:pic>
      <p:sp>
        <p:nvSpPr>
          <p:cNvPr id="406" name="Content Placeholder 4"/>
          <p:cNvSpPr/>
          <p:nvPr/>
        </p:nvSpPr>
        <p:spPr>
          <a:xfrm>
            <a:off x="4419720" y="1447920"/>
            <a:ext cx="44956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Always check oil pressure immediately after starting eng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Monitor oil temperature/pressure during fl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2" descr=""/>
          <p:cNvPicPr/>
          <p:nvPr/>
        </p:nvPicPr>
        <p:blipFill>
          <a:blip r:embed="rId1"/>
          <a:stretch/>
        </p:blipFill>
        <p:spPr>
          <a:xfrm>
            <a:off x="5943600" y="1600200"/>
            <a:ext cx="2905200" cy="2819520"/>
          </a:xfrm>
          <a:prstGeom prst="rect">
            <a:avLst/>
          </a:prstGeom>
          <a:ln w="0">
            <a:noFill/>
          </a:ln>
        </p:spPr>
      </p:pic>
      <p:pic>
        <p:nvPicPr>
          <p:cNvPr id="408" name="Title 3" descr=""/>
          <p:cNvPicPr/>
          <p:nvPr/>
        </p:nvPicPr>
        <p:blipFill>
          <a:blip r:embed="rId2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" descr=""/>
          <p:cNvPicPr/>
          <p:nvPr/>
        </p:nvPicPr>
        <p:blipFill>
          <a:blip r:embed="rId3"/>
          <a:stretch/>
        </p:blipFill>
        <p:spPr>
          <a:xfrm>
            <a:off x="5943600" y="4572000"/>
            <a:ext cx="2867040" cy="1943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457200" y="1752120"/>
            <a:ext cx="5029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Fixed Pitch: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Lucida Sans Unicode"/>
              </a:rPr>
              <a:t>Throttle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 controls RPM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Constant Speed: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Lucida Sans Unicode"/>
              </a:rPr>
              <a:t>Throttle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 controls power output (manifold pressure)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Lucida Sans Unicode"/>
              </a:rPr>
              <a:t>Propeller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 control regulates engine RPM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 in turn regulates propeller RPM via automatic pitch changes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18:34:42Z</dcterms:created>
  <dc:creator> JasonM</dc:creator>
  <dc:description/>
  <dc:language>en-US</dc:language>
  <cp:lastModifiedBy> JasonM</cp:lastModifiedBy>
  <dcterms:modified xsi:type="dcterms:W3CDTF">2009-11-12T03:17:37Z</dcterms:modified>
  <cp:revision>27</cp:revision>
  <dc:subject/>
  <dc:title>Slide 1</dc:title>
</cp:coreProperties>
</file>