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F835-5E99-4EDB-B056-D156BC97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35E6-8A93-4EF4-BF9F-75D5BAC1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60E4-3696-4646-ACE4-09E7EBF0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6227-4BCC-4C21-956E-B8BE9916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DA7A-1616-4B17-A8C0-9EBA4058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0EBE-F145-438F-9119-AC865CB4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EB1-F83D-4792-8688-0AB94ED9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0056-6BCC-4D09-BB35-CDA87684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D5B2-ABF1-411D-A747-31126926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DDC6-CD26-4D46-8E29-A456B55C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7038-A3C5-4105-BEB0-D48A2279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B85A-C7CD-4D4D-8D50-1892C53A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05CB-4EF4-48EC-A70F-E99303576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itional Ratings and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x Airplane Endor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ractable landing gear and   controllable-pitch prope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and log ground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ight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an endorsement certifying proficiency in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-performance Endor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 200 horsepower 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and log ground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ight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an endorsement certifying proficiency in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800600" y="1295280"/>
            <a:ext cx="118584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257800" y="4114800"/>
            <a:ext cx="31669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itional Ratings and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plane 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rsement attesting competency in aeronautical knowledge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rsement attesting competency in areas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isfactory completion of practical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95680" y="3733920"/>
            <a:ext cx="3733920" cy="2722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876920" y="1371600"/>
            <a:ext cx="41148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itional Ratings and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engine 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rsement attesting competency in aeronautical knowledge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rsement attesting competency in areas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isfactory completion of practical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715000" y="1447920"/>
            <a:ext cx="3294000" cy="2280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648320" y="3581280"/>
            <a:ext cx="358128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itional Pilot Certif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rcial Pilot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owledge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al 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ircraft must be compl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0 total hours of fligh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 hours of pilot-in-command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 hours of cross country pilot-in-command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 hours of flight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 hours of training in a complex air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 hours of instrument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e day VFR cross country of at least 2 hours and 100nm straight-line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e night VFR cross country of at least 2 hours and 100nm straight-line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 hours of solo f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e cross country of at least 300nm, a 250nm straight-line distance, and landings at a minimum of three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 hours of night VFR, including 10 takeoffs and 10 land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365292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21:18:02Z</dcterms:created>
  <dc:creator> </dc:creator>
  <dc:description/>
  <dc:language>en-US</dc:language>
  <cp:lastModifiedBy>Jeremy Katz</cp:lastModifiedBy>
  <dcterms:modified xsi:type="dcterms:W3CDTF">2008-03-18T23:43:49Z</dcterms:modified>
  <cp:revision>10</cp:revision>
  <dc:subject/>
  <dc:title>Slide 1</dc:title>
</cp:coreProperties>
</file>