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D9C3-EF54-4282-BDC5-71F1A1F6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FC9C-9AA2-46E1-993E-C8121A32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F44A-BEA9-42C2-AF6A-81643CAC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2234-4772-4C40-803C-37AF287E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3961-781E-4D5E-B8E7-92497731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5032-F4B3-4CE3-B63B-779E7D76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8A79-08DA-4DD2-B99E-7687097F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12DD-CAE4-47FD-BD56-8D6CBC71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22EC-82A9-4DED-B7AE-99181333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9049-E957-4129-B1CA-509E37E6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32C7-4D1D-4483-94FA-385961F2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8220-9968-443D-BF58-BA16555E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C939-4BAD-415D-8F7A-1847BA6CD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Do I Become a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rtificated Flight Instruc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vileges and Responsi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 students towards a certif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re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rument (with instrument rating on instructor certific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FI (requires 24 months and 200 hours as CF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-engine (with multi on instructor cert. and 5 hours in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P (with ATP certific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rse student pilots for solo privile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dditional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ight re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itions to new air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quirements and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 Certif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rument 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nowledge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eronautical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damentals of Instru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actical Test with FAA Inspector (first time only) or Exam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oximate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 hours of ground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hours of flight training in a complex air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o Private and Commercial Certificate while te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ructor acts as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in training (e.g. Cessna 17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starting trai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proficient at commercial maneu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comfortable flying from right s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knowledge tests out of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n’t need an instructor sign-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 a 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is knowledge he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practical t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 2 hours of 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 than 1 hour of 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now material and know where to look up ans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confident but not co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pector will ask trick questions or say incorrect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t mistakes and look up what you’re unsur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21:18:02Z</dcterms:created>
  <dc:creator> </dc:creator>
  <dc:description/>
  <dc:language>en-US</dc:language>
  <cp:lastModifiedBy>Jeremy Katz</cp:lastModifiedBy>
  <dcterms:modified xsi:type="dcterms:W3CDTF">2008-03-18T23:45:31Z</dcterms:modified>
  <cp:revision>15</cp:revision>
  <dc:subject/>
  <dc:title>Slide 1</dc:title>
</cp:coreProperties>
</file>