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54A-2C63-4F14-AAC2-8EF39A27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EDB-6DE3-4B0A-9B7E-C0805369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174-DE10-4986-A2C8-EEC21D53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064-76B0-40A3-8E80-10F7765B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2DB-A0D6-45B6-8B1B-38D1566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077-5B63-4EED-BC93-1FCEA0AB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2B1-C021-4E44-A827-3E17D67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229-2E8C-4459-87F7-09634E38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A55-65E3-449B-9101-7983BA65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DFE-09F4-43ED-846C-A7BE217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136-1B8F-48DA-AE53-AA03FC0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325-F346-4858-A9B2-62A6822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917-FA05-4C55-B81A-AF9FFF9D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ro.aerobaticsweb.org/images/super_d2_963x640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batic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and Chec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10-15 hours of dual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wheel instruction and endorsement is usually a part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se aircraf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from abnormal attitudes and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4496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4-15T20:44:26Z</dcterms:modified>
  <cp:revision>12</cp:revision>
  <dc:subject/>
  <dc:title>Slide 1</dc:title>
</cp:coreProperties>
</file>