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1D9-2E8A-482D-AF50-ADC000CB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E08-7EFA-472F-9646-060F2740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946-DF10-4B21-B6AC-8C8DAACD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BA1-A510-4CD1-A094-9089F809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5CB-5219-4937-BD82-B947A893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E9C-C503-4259-818D-4FC93381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41F-AE0F-43EF-809E-464C53E6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432-1A9D-4DCF-9A54-22BA0059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B20-A0F5-4824-A49C-2DFF4606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37D-D0D3-4BEE-A619-C4DCE371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05A-92DA-4EF2-93C2-CB1B58A1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EBB-C962-4473-A62B-E0076319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1A4A-46E1-4511-A5AF-9C0B1CFE8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48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049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NNA LEARN TO FL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people to fly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to take flying tri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362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pe 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733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ey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819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rtha’s Vine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vincet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15238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Flying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876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 SESSION AND MIX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410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7:30 – 8:30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943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225. Food provid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514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.mit.edu/mitfl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transparent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68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2:07:01Z</dcterms:created>
  <dc:creator>CJS</dc:creator>
  <dc:description/>
  <dc:language>en-US</dc:language>
  <cp:lastModifiedBy>CJS</cp:lastModifiedBy>
  <dcterms:modified xsi:type="dcterms:W3CDTF">2006-02-25T20:53:34Z</dcterms:modified>
  <cp:revision>5</cp:revision>
  <dc:subject/>
  <dc:title>PowerPoint Presentation</dc:title>
</cp:coreProperties>
</file>