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6304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1023-23A3-4A98-A693-79FFA0AE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3656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96920" y="5507640"/>
            <a:ext cx="1243656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A5A-B13F-4593-AFFF-69F08B64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6964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96920" y="550764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69640" y="550764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832-F946-481D-86E1-107FD522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1720" y="264168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506520" y="264168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96920" y="550764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01720" y="550764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506520" y="550764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BEF-0985-4EA5-AE77-88047A4C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96920" y="2641680"/>
            <a:ext cx="12436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0EE-5113-4FC7-A5BF-6E877335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3656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DE6F-1189-4064-9459-AB89C526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888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69640" y="2641680"/>
            <a:ext cx="606888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D0D-C10A-4387-A9AC-E974915D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B208-3C35-43B6-A31F-A21931B0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96920" y="812520"/>
            <a:ext cx="124365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2D11-8944-4A35-BF2C-99CDA527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69640" y="2641680"/>
            <a:ext cx="606888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96920" y="550764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1AFF-BCBE-4FE3-B93E-2A1AB350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888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6964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69640" y="550764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A66-8118-4A09-A32F-40416476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6964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96920" y="5507640"/>
            <a:ext cx="1243656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420-2E7C-4F4A-9609-F6412EDD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96920" y="2641680"/>
            <a:ext cx="1243656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 fontScale="90000"/>
          </a:bodyPr>
          <a:p>
            <a:pPr marL="458640" indent="-45864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880" indent="-38160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8560" indent="-30528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3" marL="2140200" indent="-30708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4" marL="2751480" indent="-30708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5" marL="2751480" indent="-30708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6" marL="2751480" indent="-30708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96560" y="8331120"/>
            <a:ext cx="3048120" cy="609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8331120"/>
            <a:ext cx="4632480" cy="609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8331120"/>
            <a:ext cx="3048120" cy="609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9049D19C-198F-489E-9681-5FEA2DB528A8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G_4839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972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41360" y="406440"/>
            <a:ext cx="12192120" cy="12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 algn="ctr">
              <a:lnSpc>
                <a:spcPct val="100000"/>
              </a:lnSpc>
              <a:spcBef>
                <a:spcPts val="4436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7100" spc="-1" strike="noStrike">
                <a:solidFill>
                  <a:srgbClr val="ffffff"/>
                </a:solidFill>
                <a:latin typeface="Arial"/>
              </a:rPr>
              <a:t>WANNA LEARN TO FLY?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7440" y="1930320"/>
            <a:ext cx="6950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ant people to fly with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440" y="2540160"/>
            <a:ext cx="6950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ant to take flying trips to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3149640"/>
            <a:ext cx="3414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- Cape Co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4978440"/>
            <a:ext cx="45100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nd beyond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759120"/>
            <a:ext cx="52434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- Martha’s Viney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4368960"/>
            <a:ext cx="4144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- Provincetow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049200" y="2008080"/>
            <a:ext cx="1950840" cy="14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otype Corsiva"/>
              </a:rPr>
              <a:t>Flying Club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9520" y="6702480"/>
            <a:ext cx="75596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FO SESSION AND MIX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7412040"/>
            <a:ext cx="9264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rch 15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, 7:30 – 8:30pm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8123400"/>
            <a:ext cx="658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35-225. Food provided!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18520" y="3325680"/>
            <a:ext cx="512136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b.mit.edu/mitfly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transparent" descr=""/>
          <p:cNvPicPr/>
          <p:nvPr/>
        </p:nvPicPr>
        <p:blipFill>
          <a:blip r:embed="rId2"/>
          <a:stretch/>
        </p:blipFill>
        <p:spPr>
          <a:xfrm>
            <a:off x="8458200" y="2209680"/>
            <a:ext cx="36576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2:07:01Z</dcterms:created>
  <dc:creator>CJS</dc:creator>
  <dc:description/>
  <dc:language>en-US</dc:language>
  <cp:lastModifiedBy>CJS</cp:lastModifiedBy>
  <dcterms:modified xsi:type="dcterms:W3CDTF">2006-02-25T20:53:11Z</dcterms:modified>
  <cp:revision>6</cp:revision>
  <dc:subject/>
  <dc:title>PowerPoint Presentation</dc:title>
</cp:coreProperties>
</file>