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D7B-3CE4-4527-AC4A-80499738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55F-EB94-4523-86C2-DDC5612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38B-015E-4AB9-9614-A8CC8D50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EFC-8CDA-4F9F-B460-609F19BA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9C3D-C83F-4EC5-A1E8-CEB9848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4E6-ECDC-41E9-B14B-512410F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776A-6628-4F6B-9B77-A5CF01D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3E3-9F5F-405C-B134-3002A70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2C31-AF80-4B14-8715-E268A54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E71-71D5-474E-B63D-9251B0CC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163B-5C13-454F-B974-2D070F0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FCB-8640-4485-8782-2C7FAF27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983E-5634-4E17-AC68-6D57B53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31C-0237-4111-9356-49F9339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02DC-F6C3-4312-A2C1-659DBFB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4C5-DB15-4DB4-AC2E-AA11C2B3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8CE-EDF6-47D1-935B-492F2DB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67A-0C6F-4DA0-8E02-CCFEEC6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A18-7E48-48A7-941A-A8A6FD9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24B-B6C4-47EF-A1F1-F15E68E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74E-71C3-4255-988D-5BFA17F1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8E7-81A8-4E2F-BCEB-E51CAC7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8A8-3453-4A95-A2F1-7164838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1E6-5B39-4448-9626-A1D15614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5232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042-0B14-439F-82EB-C20F55F51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406B-689A-459D-902A-EE9928BC38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ircraft Performa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TFC Ground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nuary 13,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mbing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excess power to push plane up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ower drives climb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thrust drives climb 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27600" y="2743200"/>
            <a:ext cx="431640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426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b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82940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way Conditions: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t run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s of 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dwind = reduced takeoff 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wind = increased takeoff di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 of wind in direction perpendicular to aircraft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have crosswind lim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4520" y="1106640"/>
            <a:ext cx="4735800" cy="63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177920"/>
            <a:ext cx="7086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-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 – True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AS – Indicat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s1 – Stall speed in standard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x - Best Angl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y – Best Rat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a – Maneuvering speed (max deflection of controls saf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ne – Never Exce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craft performance charts referenced to ICAO Standard Atmosp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9.92 in Hg (14.7 psi)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1 in Hg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°C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2°C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ments given for non-standard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altimeter s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imeter is corrected to “actual” altitude via altimeter settings, which are broadcasted by air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your altimeter to 29.92 “Hg and reading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ying a correction factor to the current altitude based on your altimeter s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y Altitude (D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 corrected for variations in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air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(mass/volume) is affected by altitude, temperature, and humid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describ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temperat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A = lower aircraf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lifting medium for w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stalls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ine power is reduc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d plainly, higher DA means lower density, or less air molecules to work w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itud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776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Pressure and 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meter setting is 30.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 airport at 42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9.92-30.12)*1000 = -200 ft plus 4,200 = 4000  …or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ist altimeter setting to 29.92, and find that the pressure altitude is 4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n OAT of 16C, what is Density Altit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8892" r="25004" b="0"/>
          <a:stretch/>
        </p:blipFill>
        <p:spPr>
          <a:xfrm>
            <a:off x="4343400" y="9907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craft 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site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d by aircraft as it moves through 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with square of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g created by l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at high Angle of Attack/Lower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52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066320"/>
            <a:ext cx="40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 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 (internal combus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GA Aircra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pr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f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decreases with density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ust decreases with airspeed (propell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pitch propellers (constant speed prop) offer better propeller efficiency over wider r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GA aircraft use fixed-pitch p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43360" y="1371600"/>
            <a:ext cx="44006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Level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= Thrust * Velo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Drag * Velocity in steady f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propeller aircraft, at a given throttle setting, power approximately constant with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rust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2925720"/>
            <a:ext cx="495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ise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60640"/>
            <a:ext cx="7086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12:00Z</dcterms:created>
  <dc:creator>JL</dc:creator>
  <dc:description/>
  <dc:language>en-US</dc:language>
  <cp:lastModifiedBy>Jonathan </cp:lastModifiedBy>
  <dcterms:modified xsi:type="dcterms:W3CDTF">2010-01-13T23:02:29Z</dcterms:modified>
  <cp:revision>4</cp:revision>
  <dc:subject/>
  <dc:title>Aircraft Performance</dc:title>
</cp:coreProperties>
</file>