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2.wmf" ContentType="image/x-wmf"/>
  <Override PartName="/ppt/media/image5.wmf" ContentType="image/x-wmf"/>
  <Override PartName="/ppt/media/image21.wmf" ContentType="image/x-wmf"/>
  <Override PartName="/ppt/media/image4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17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3.png" ContentType="image/png"/>
  <Override PartName="/ppt/media/image10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8BBF-DC0D-4204-8F0C-F8600BB9E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816E-A6B5-4390-978B-3B0AEBBD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2842-093D-4A1E-A386-A7AD2ADD9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D0B8-023E-4DBB-A958-860831367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B3C7-55F8-4D86-8049-80199A94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6156-448F-408B-A1C1-13095BAE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0025-F379-4081-BE83-00C0E605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A643-6E1C-4DA0-BBE2-3DABBE41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9721-42C6-482D-939C-DA9A73F4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E1B9-79D0-4B5F-A0C0-218C948C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9673-E390-464F-8301-E0CC6A75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2EE5-706A-4133-83A6-B0E70AB7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4D0E-206E-4DB4-BFA3-6B982CB2E657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Basic Airplane Instruments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Jason Maloney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MITFC Ground Schoo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all 2009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Gyroscopes &amp; Precession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Rigidity in Spac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Precessio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Force felt 90</a:t>
            </a:r>
            <a:r>
              <a:rPr b="0" lang="en-US" sz="21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°</a:t>
            </a: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 later in direction of rotation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ir flow from vacuum system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76" name="Text Placeholder 29" descr=""/>
          <p:cNvPicPr/>
          <p:nvPr/>
        </p:nvPicPr>
        <p:blipFill>
          <a:blip r:embed="rId2"/>
          <a:stretch/>
        </p:blipFill>
        <p:spPr>
          <a:xfrm>
            <a:off x="1276200" y="3835440"/>
            <a:ext cx="2914920" cy="2870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724280" y="1676520"/>
            <a:ext cx="384192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def5fa"/>
                </a:solidFill>
                <a:latin typeface="Lucida Sans Unicode"/>
              </a:rPr>
              <a:t>Vacuum System and Instruments</a:t>
            </a:r>
            <a:endParaRPr b="1" lang="en-US" sz="37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6840" y="1481040"/>
            <a:ext cx="754380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Monitor vacuum pressure during flight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Some airplanes have back-up vacuum sourc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80" name="Text Placeholder 29" descr=""/>
          <p:cNvPicPr/>
          <p:nvPr/>
        </p:nvPicPr>
        <p:blipFill>
          <a:blip r:embed="rId2"/>
          <a:stretch/>
        </p:blipFill>
        <p:spPr>
          <a:xfrm>
            <a:off x="838080" y="2743200"/>
            <a:ext cx="69343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Turn &amp; Slip / Turn Coordinator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480680"/>
            <a:ext cx="67816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Principle of Precessio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Turn coordinator shows both rate of roll and rate of turn (canted gyro)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Turn-and-slip only shows rate of tur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83" name="Text Placeholder 29" descr=""/>
          <p:cNvPicPr/>
          <p:nvPr/>
        </p:nvPicPr>
        <p:blipFill>
          <a:blip r:embed="rId2"/>
          <a:stretch/>
        </p:blipFill>
        <p:spPr>
          <a:xfrm>
            <a:off x="914400" y="3406680"/>
            <a:ext cx="678168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Turn Coordination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“</a:t>
            </a: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Step on the ball”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Coordinated turns will help prevent spins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Standard rate turn 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3</a:t>
            </a:r>
            <a:r>
              <a:rPr b="0" lang="en-US" sz="21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°</a:t>
            </a: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 per second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2 minute turn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86" name="Text Placeholder 29" descr=""/>
          <p:cNvPicPr/>
          <p:nvPr/>
        </p:nvPicPr>
        <p:blipFill>
          <a:blip r:embed="rId2"/>
          <a:stretch/>
        </p:blipFill>
        <p:spPr>
          <a:xfrm>
            <a:off x="4734000" y="1600200"/>
            <a:ext cx="38671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Attitude Indicator (ADI)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28240" y="148104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Principle of Rigidity in Spac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Instantaneous indications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Your aircraft rotates around the gyro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89" name="Text Placeholder 29" descr=""/>
          <p:cNvPicPr/>
          <p:nvPr/>
        </p:nvPicPr>
        <p:blipFill>
          <a:blip r:embed="rId2"/>
          <a:stretch/>
        </p:blipFill>
        <p:spPr>
          <a:xfrm>
            <a:off x="4648320" y="1606680"/>
            <a:ext cx="403848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Reading an Attitude Indicator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Compare miniature airplane to artificial horizo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djust airplane to match horizon during straight-and-level flight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92" name="Text Placeholder 29" descr=""/>
          <p:cNvPicPr/>
          <p:nvPr/>
        </p:nvPicPr>
        <p:blipFill>
          <a:blip r:embed="rId2"/>
          <a:stretch/>
        </p:blipFill>
        <p:spPr>
          <a:xfrm>
            <a:off x="5092560" y="1143000"/>
            <a:ext cx="3216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def5fa"/>
                </a:solidFill>
                <a:latin typeface="Lucida Sans Unicode"/>
              </a:rPr>
              <a:t>Directional Gyro (DG)</a:t>
            </a:r>
            <a:br>
              <a:rPr sz="3700"/>
            </a:br>
            <a:r>
              <a:rPr b="1" lang="en-US" sz="3700" spc="-1" strike="noStrike">
                <a:solidFill>
                  <a:srgbClr val="def5fa"/>
                </a:solidFill>
                <a:latin typeface="Lucida Sans Unicode"/>
              </a:rPr>
              <a:t>a.k.a. Heading Indicator </a:t>
            </a:r>
            <a:endParaRPr b="1" lang="en-US" sz="37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Principle of Rigidity in Spac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Must set the DG to a known heading before us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Readjust periodically due to precessio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95" name="Text Placeholder 29" descr=""/>
          <p:cNvPicPr/>
          <p:nvPr/>
        </p:nvPicPr>
        <p:blipFill>
          <a:blip r:embed="rId2"/>
          <a:stretch/>
        </p:blipFill>
        <p:spPr>
          <a:xfrm>
            <a:off x="4873680" y="1481040"/>
            <a:ext cx="358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Magnetic Compass &amp; Errors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51920" y="1066680"/>
            <a:ext cx="4343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Lucida Sans Unicode"/>
              </a:rPr>
              <a:t>Variatio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Magnetic vs. True North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Reference Isogonic lines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Lucida Sans Unicode"/>
              </a:rPr>
              <a:t>Dip</a:t>
            </a: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: Northern Hemisphere Turning Error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U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ndershoot </a:t>
            </a: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orth, </a:t>
            </a: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vershoot </a:t>
            </a: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outh (</a:t>
            </a:r>
            <a:r>
              <a:rPr b="0" lang="en-US" sz="1800" spc="-1" strike="noStrike">
                <a:solidFill>
                  <a:srgbClr val="ff8119"/>
                </a:solidFill>
                <a:latin typeface="Lucida Sans Unicode"/>
              </a:rPr>
              <a:t>UNOS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Accurate indication at 90 &amp; 270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Lucida Sans Unicode"/>
              </a:rPr>
              <a:t>Dip</a:t>
            </a: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: Acceleration Error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On East or West heading: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ccelerate </a:t>
            </a: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orth, </a:t>
            </a: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D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ecelerate </a:t>
            </a: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outh (</a:t>
            </a:r>
            <a:r>
              <a:rPr b="0" lang="en-US" sz="1800" spc="-1" strike="noStrike">
                <a:solidFill>
                  <a:srgbClr val="ff8119"/>
                </a:solidFill>
                <a:latin typeface="Lucida Sans Unicode"/>
              </a:rPr>
              <a:t>ANDS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Lucida Sans Unicode"/>
              </a:rPr>
              <a:t>Deviatio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Local magnetic fields (i.e. from radio)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98" name="Text Placeholder 29" descr=""/>
          <p:cNvPicPr/>
          <p:nvPr/>
        </p:nvPicPr>
        <p:blipFill>
          <a:blip r:embed="rId2"/>
          <a:stretch/>
        </p:blipFill>
        <p:spPr>
          <a:xfrm>
            <a:off x="4724280" y="1438200"/>
            <a:ext cx="3886200" cy="3425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346640" y="4927680"/>
            <a:ext cx="464508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def5fa"/>
                </a:solidFill>
                <a:latin typeface="Lucida Sans Unicode"/>
              </a:rPr>
              <a:t>Pitot-Static System &amp; Instruments</a:t>
            </a:r>
            <a:endParaRPr b="1" lang="en-US" sz="37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48104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irspeed Indicator (Pitot and Static)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Vertical Speed Indicator (Static)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ltimeter (Static)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Pitot Heat to prevent/melt ic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657600" y="2486160"/>
            <a:ext cx="53341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Altimeter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6320" y="1523880"/>
            <a:ext cx="4572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Wafers sealed at Standard Pressure of 29.92” Hg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marL="289080" indent="-28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Adjust altimeter setting in Kollsman Window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6280" indent="-289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1”Hg = 1,000 ft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6280" indent="-289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Set to field elevation if no setting available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marL="289080" indent="-28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Types of Altitude: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6280" indent="-28908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Indicated Altitude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6280" indent="-28908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True Altitude (MSL)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6280" indent="-28908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Pressure Altitude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6280" indent="-28908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Absolute Altitude (AGL)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6280" indent="-28908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Density Altitude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54" name="Text Placeholder 29" descr=""/>
          <p:cNvPicPr/>
          <p:nvPr/>
        </p:nvPicPr>
        <p:blipFill>
          <a:blip r:embed="rId2"/>
          <a:stretch/>
        </p:blipFill>
        <p:spPr>
          <a:xfrm>
            <a:off x="4695840" y="990720"/>
            <a:ext cx="3940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Nonstandard Temp. &amp; Pressure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“</a:t>
            </a: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High to Low or Hot to Cold, look out below!”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57" name="Text Placeholder 29" descr=""/>
          <p:cNvPicPr/>
          <p:nvPr/>
        </p:nvPicPr>
        <p:blipFill>
          <a:blip r:embed="rId2"/>
          <a:stretch/>
        </p:blipFill>
        <p:spPr>
          <a:xfrm>
            <a:off x="1066680" y="3048120"/>
            <a:ext cx="69343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Vertical Speed Indicator (VSI)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176120"/>
            <a:ext cx="4038480" cy="49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Rate of climb or descent in feet per minut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Static pressure differential instrument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Wafers at ambient pressur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Diaphragm exposed to ambient pressure, but with calibrated leak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VSI lags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Trend and Rate informatio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60" name="Text Placeholder 29" descr=""/>
          <p:cNvPicPr/>
          <p:nvPr/>
        </p:nvPicPr>
        <p:blipFill>
          <a:blip r:embed="rId2"/>
          <a:stretch/>
        </p:blipFill>
        <p:spPr>
          <a:xfrm>
            <a:off x="4648320" y="1604880"/>
            <a:ext cx="403848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Airspeed Indicator (ASI)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8240" y="1252440"/>
            <a:ext cx="4876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Dynamic and static pressure differential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289080" indent="-28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Types of Airspeed: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Indicated (IAS)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Calibrated (CAS)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True (TAS)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Groundspeed (GS)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marL="289080" indent="-28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Some V-speeds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Vso -stall w/ flaps (“dirty”)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Vs1-stall w/o flaps (“clean”)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Vfe -max flap extend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Vno -max structural cruise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Vne -never exceed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63" name="Text Placeholder 29" descr=""/>
          <p:cNvPicPr/>
          <p:nvPr/>
        </p:nvPicPr>
        <p:blipFill>
          <a:blip r:embed="rId2"/>
          <a:srcRect l="0" t="0" r="0" b="7621"/>
          <a:stretch/>
        </p:blipFill>
        <p:spPr>
          <a:xfrm>
            <a:off x="5029200" y="1143000"/>
            <a:ext cx="3276720" cy="2771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181480" y="3962520"/>
            <a:ext cx="2892600" cy="26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Blocked Pitot Tube (inlet only)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Ram air exits via drai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Pressure equalizes to static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SI decreases to zero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876920" y="2590920"/>
            <a:ext cx="380664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def5fa"/>
                </a:solidFill>
                <a:latin typeface="Lucida Sans Unicode"/>
              </a:rPr>
              <a:t>Blocked Pitot System </a:t>
            </a:r>
            <a:br>
              <a:rPr sz="3700"/>
            </a:br>
            <a:r>
              <a:rPr b="1" lang="en-US" sz="3700" spc="-1" strike="noStrike">
                <a:solidFill>
                  <a:srgbClr val="def5fa"/>
                </a:solidFill>
                <a:latin typeface="Lucida Sans Unicode"/>
              </a:rPr>
              <a:t>(inlet and drain)</a:t>
            </a:r>
            <a:endParaRPr b="1" lang="en-US" sz="37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8600" y="1481040"/>
            <a:ext cx="46483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SI Frozen at constant altitud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SI acts as an altimeter: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A climb will show an increased airspeed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Descent will show decreased airspeed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Potentially very dangerous!!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Why?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What </a:t>
            </a:r>
            <a:r>
              <a:rPr b="0" lang="en-US" sz="2100" spc="-1" strike="noStrike" u="sng">
                <a:solidFill>
                  <a:srgbClr val="ffffff"/>
                </a:solidFill>
                <a:uFillTx/>
                <a:latin typeface="Lucida Sans Unicode"/>
              </a:rPr>
              <a:t>should</a:t>
            </a: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 happen as you climb? Descend?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Can lead to stall and/or in-flight breakup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70" name="Text Placeholder 29" descr=""/>
          <p:cNvPicPr/>
          <p:nvPr/>
        </p:nvPicPr>
        <p:blipFill>
          <a:blip r:embed="rId2"/>
          <a:stretch/>
        </p:blipFill>
        <p:spPr>
          <a:xfrm>
            <a:off x="5295960" y="762120"/>
            <a:ext cx="36957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Blocked Static Por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SI continues to operate, but incorrectly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Behaves somewhat as an altimeter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VSI reads zero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ltimeter frozen at altitude where blockage occurred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Try alternate static sourc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Mechanical, or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Break face of VSI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73" name="Text Placeholder 29" descr=""/>
          <p:cNvPicPr/>
          <p:nvPr/>
        </p:nvPicPr>
        <p:blipFill>
          <a:blip r:embed="rId2"/>
          <a:stretch/>
        </p:blipFill>
        <p:spPr>
          <a:xfrm>
            <a:off x="4678200" y="1481040"/>
            <a:ext cx="397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8:52:59Z</dcterms:created>
  <dc:creator>JMALONEY</dc:creator>
  <dc:description/>
  <dc:language>en-US</dc:language>
  <cp:lastModifiedBy>JMALONEY</cp:lastModifiedBy>
  <dcterms:modified xsi:type="dcterms:W3CDTF">2009-11-17T21:55:30Z</dcterms:modified>
  <cp:revision>15</cp:revision>
  <dc:subject/>
  <dc:title>Slide 1</dc:title>
</cp:coreProperties>
</file>