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9.gif" ContentType="image/gif"/>
  <Override PartName="/ppt/media/image8.gif" ContentType="image/gif"/>
  <Override PartName="/ppt/media/image18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2.wmf" ContentType="image/x-wmf"/>
  <Override PartName="/ppt/media/image3.gif" ContentType="image/gif"/>
  <Override PartName="/ppt/media/image20.jpeg" ContentType="image/jpeg"/>
  <Override PartName="/ppt/media/image12.png" ContentType="image/png"/>
  <Override PartName="/ppt/media/image1.jpeg" ContentType="image/jpeg"/>
  <Override PartName="/ppt/media/image4.gif" ContentType="image/gif"/>
  <Override PartName="/ppt/media/image6.jpeg" ContentType="image/jpeg"/>
  <Override PartName="/ppt/media/image14.jpeg" ContentType="image/jpeg"/>
  <Override PartName="/ppt/media/image5.gif" ContentType="image/gif"/>
  <Override PartName="/ppt/media/image10.gif" ContentType="image/gi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CF0AB-47C8-4012-B3CC-F370401C7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36176-EF63-4913-968B-0CA9D0ECE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BAD94-4646-4A6F-A839-E2B1DEACE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7779D-3D80-4D19-82D5-F85D1D714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790F4-29FA-4A71-800A-9CAD71ED0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C9AA0-E964-47FC-93DD-0B7B0B664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47F54-E036-421D-918C-FFC870605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F23EF-1CDF-4E15-BB41-4A6414DEB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6C7BC-AA9D-4B00-B068-F2E861AFA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20273-94A7-489B-895C-18819FA86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BD7F6-ADB7-4D78-AFBA-DE329F157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73605-8E96-46E0-8F49-40FB072ED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07597-F290-4D85-B653-86618E9BD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7BA6A-D8F9-4731-A64F-100931925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514C1-8803-4AF5-88B5-3532319AD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5F8DB-828F-4A3A-95B2-4CB95A019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9B450-FF1D-493C-9421-6D2FA4E12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8CD4A-B8CC-4626-B6CC-F3D821736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3EEBB-3B73-4761-BA7B-A0DA7BE7A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50F69-79FD-4816-AEEB-7D27C4CB3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94EA9-46DA-4B02-A1EE-3FD5DD8E4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52F95-FE85-44CF-95E6-4517174A5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0C990-60FB-46AD-BF55-8DC9859ED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817D4-ED5D-4DE3-AFE2-51495C745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4D380-1249-4073-BF88-BCFEFC7A8F6E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60C28-3DC3-4EC1-935D-EA154077A28A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grc.nasa.gov/WWW/K-12/airplane/pitch.html" TargetMode="External"/><Relationship Id="rId2" Type="http://schemas.openxmlformats.org/officeDocument/2006/relationships/hyperlink" Target="http://www.grc.nasa.gov/WWW/K-12/airplane/roll.html" TargetMode="External"/><Relationship Id="rId3" Type="http://schemas.openxmlformats.org/officeDocument/2006/relationships/hyperlink" Target="http://www.grc.nasa.gov/WWW/K-12/airplane/yaw.html" TargetMode="External"/><Relationship Id="rId4" Type="http://schemas.openxmlformats.org/officeDocument/2006/relationships/image" Target="../media/image3.gif"/><Relationship Id="rId5" Type="http://schemas.openxmlformats.org/officeDocument/2006/relationships/image" Target="../media/image4.gif"/><Relationship Id="rId6" Type="http://schemas.openxmlformats.org/officeDocument/2006/relationships/image" Target="../media/image5.gif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gif"/><Relationship Id="rId3" Type="http://schemas.openxmlformats.org/officeDocument/2006/relationships/image" Target="../media/image10.gi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elair.selkirk.bc.ca/aerodynamics1/Stability/Page3.html" TargetMode="Externa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Stability and Flight Controls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Lateral Stability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ability about longitudinal axi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KA Roll Stabil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n be influenced b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hedr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weep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igh vs. Low W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5029200" y="1371600"/>
            <a:ext cx="3324240" cy="362916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76320" y="6324480"/>
            <a:ext cx="906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lenn Fisher                                                           Private Pilot Ground School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553080" y="30481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914400" y="2133720"/>
            <a:ext cx="3324240" cy="362880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Increasing Lateral Stability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0" y="1295280"/>
            <a:ext cx="419112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ihedr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Dihedral effect on lateral stability"/>
          <p:cNvPicPr/>
          <p:nvPr/>
        </p:nvPicPr>
        <p:blipFill>
          <a:blip r:embed="rId2"/>
          <a:stretch/>
        </p:blipFill>
        <p:spPr>
          <a:xfrm>
            <a:off x="4724280" y="1905120"/>
            <a:ext cx="3829320" cy="420984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228600" y="1295280"/>
            <a:ext cx="4191120" cy="45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ng Place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2514600" y="23623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590920" y="30481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590920" y="29718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362320" y="50292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2476440" y="421956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Directional Stability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419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ability about vertical axi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fluenced by size and location of vertical stabiliz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milar to weather vane or feathers on an arrow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4952880" y="1447920"/>
            <a:ext cx="3438720" cy="452592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76320" y="6324480"/>
            <a:ext cx="906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lenn Fisher                                                           Private Pilot Ground School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Stall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t certain angle of attack airflow cannot “stick” to top of w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ir flow separation occur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4648320" y="1865160"/>
            <a:ext cx="4038480" cy="400068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76320" y="6324480"/>
            <a:ext cx="906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lenn Fisher                                                           Private Pilot Ground School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Stall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“critical angle of attack” does not change for a given w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arge loss of lift when stall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all Vide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-22 Stall Vide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4876920" y="1752480"/>
            <a:ext cx="3886200" cy="364032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76320" y="6324480"/>
            <a:ext cx="906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lenn Fisher                                                           Private Pilot Ground School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Spin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ncoordinated stalls result in spi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oth wings are stalled, 1 wing “more” stalled than oth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otating helical downward pat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sy to recover from in Cessna 17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You won’t have to do this during train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ideo 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ideo 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ideo 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6320" y="6324480"/>
            <a:ext cx="906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lenn Fisher                                                           Private Pilot Ground School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6633"/>
                </a:solidFill>
                <a:latin typeface="Garamond"/>
              </a:rPr>
              <a:t>Aerodynamics of Maneuvering Flight</a:t>
            </a:r>
            <a:endParaRPr b="0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mbing Fligh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40388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irplane climbs due to inclined thrust vect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4 Forces are still in equilibriu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ate at which airplane climbs determined by excess thru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6320" y="6324480"/>
            <a:ext cx="906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lenn Fisher                                                           Private Pilot Ground School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Left Turning Tendenci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rqu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 Fact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piraling Slip Stream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yroscopic Precess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s is not always a left turning tendenc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6554"/>
          <a:stretch/>
        </p:blipFill>
        <p:spPr>
          <a:xfrm>
            <a:off x="4419720" y="1447920"/>
            <a:ext cx="4572000" cy="434340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76320" y="6324480"/>
            <a:ext cx="906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lenn Fisher                                                           Private Pilot Ground School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Descending Fligh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40388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irplane descends when flight path is pointed downwar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4 Forces are still in equilibriu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6320" y="6324480"/>
            <a:ext cx="906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lenn Fisher                                                           Private Pilot Ground School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Three Axes of Fligh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ongitudinal (green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se to tai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ateral (blu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ng tip to Wing ti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ertical (red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p to botto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267080" y="1905120"/>
            <a:ext cx="4475160" cy="33922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76320" y="6324480"/>
            <a:ext cx="906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lenn Fisher                                                           Private Pilot Ground School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8001000" y="3505320"/>
            <a:ext cx="457200" cy="1981080"/>
          </a:xfrm>
          <a:custGeom>
            <a:avLst/>
            <a:gdLst>
              <a:gd name="textAreaLeft" fmla="*/ 61200 w 457200"/>
              <a:gd name="textAreaRight" fmla="*/ 396000 w 457200"/>
              <a:gd name="textAreaTop" fmla="*/ 346680 h 1981080"/>
              <a:gd name="textAreaBottom" fmla="*/ 1436400 h 19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715000" y="53341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4800600"/>
            <a:ext cx="1904760" cy="10666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238880" y="47242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620120" y="54100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86600" y="59436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Turning Fligh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orizontal component of lift turns pla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udder is used to maintain coordin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4 forces are not in equilibrium, this is accelerated fligh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rcRect l="0" t="0" r="0" b="3950"/>
          <a:stretch/>
        </p:blipFill>
        <p:spPr>
          <a:xfrm>
            <a:off x="4648320" y="1935000"/>
            <a:ext cx="4038480" cy="370872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76320" y="6324480"/>
            <a:ext cx="906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lenn Fisher                                                           Private Pilot Ground School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Load Factor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atio of weight supported by wings to weight of aircraf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KA as G’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load factor of 2, or 2 G’s means wings support twice aircraft weigh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creasing load factor increases stall spe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rcRect l="0" t="0" r="0" b="5097"/>
          <a:stretch/>
        </p:blipFill>
        <p:spPr>
          <a:xfrm>
            <a:off x="5105520" y="1371600"/>
            <a:ext cx="3429000" cy="307008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76320" y="6324480"/>
            <a:ext cx="906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lenn Fisher                                                           Private Pilot Ground School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5715000" y="4572000"/>
                <a:ext cx="1986120" cy="89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LIFT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WEIGH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ontrol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481040" y="1486080"/>
            <a:ext cx="6180120" cy="388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The Flight Control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971440" y="1066320"/>
            <a:ext cx="5181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996600"/>
                </a:solidFill>
                <a:uFillTx/>
                <a:latin typeface="Arial"/>
                <a:hlinkClick r:id="rId1"/>
              </a:rPr>
              <a:t>Pitc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lnSpc>
                <a:spcPct val="9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tion about the lateral ax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lnSpc>
                <a:spcPct val="9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led by the elev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996600"/>
                </a:solidFill>
                <a:uFillTx/>
                <a:latin typeface="Arial"/>
                <a:hlinkClick r:id="rId2"/>
              </a:rPr>
              <a:t>Ro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lnSpc>
                <a:spcPct val="9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tion about the longitudinal ax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lnSpc>
                <a:spcPct val="9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led by the aile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996600"/>
                </a:solidFill>
                <a:uFillTx/>
                <a:latin typeface="Arial"/>
                <a:hlinkClick r:id="rId3"/>
              </a:rPr>
              <a:t>Ya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lnSpc>
                <a:spcPct val="9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tion about the vertical ax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lnSpc>
                <a:spcPct val="9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led by the rud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6320" y="6324480"/>
            <a:ext cx="906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lenn Fisher                                                           Private Pilot Ground School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Computer animation of an airliner in which the wings&#10; moves up and down in response to changing the aileron angle."/>
          <p:cNvPicPr/>
          <p:nvPr/>
        </p:nvPicPr>
        <p:blipFill>
          <a:blip r:embed="rId4"/>
          <a:stretch/>
        </p:blipFill>
        <p:spPr>
          <a:xfrm>
            <a:off x="380880" y="2666880"/>
            <a:ext cx="2438640" cy="19684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Computer animation of an airliner in which the nose&#10; moves up and down in response to changing the elevator angle."/>
          <p:cNvPicPr/>
          <p:nvPr/>
        </p:nvPicPr>
        <p:blipFill>
          <a:blip r:embed="rId5"/>
          <a:stretch/>
        </p:blipFill>
        <p:spPr>
          <a:xfrm>
            <a:off x="304920" y="990720"/>
            <a:ext cx="2438280" cy="19620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Computer animation of an airliner in which the nose&#10; moves side to side in response to changing the rudder angle."/>
          <p:cNvPicPr/>
          <p:nvPr/>
        </p:nvPicPr>
        <p:blipFill>
          <a:blip r:embed="rId6"/>
          <a:stretch/>
        </p:blipFill>
        <p:spPr>
          <a:xfrm>
            <a:off x="380880" y="4299120"/>
            <a:ext cx="2438640" cy="194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Adverse Yaw </a:t>
            </a:r>
            <a:br>
              <a:rPr sz="3800"/>
            </a:b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(or why we have a Rudder)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duced drag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crease in lift = increase in dr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we want to roll to lef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Yoke turns to lef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eft aileron goes up, right aileron goes dow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ight wing develops more lift, therefore more dr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d Plane tries to yaw in opposite direction to ro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4952880" y="1828800"/>
            <a:ext cx="3184560" cy="41958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76320" y="6324480"/>
            <a:ext cx="906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lenn Fisher                                                           Private Pilot Ground School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Static Stability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ositive (stab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all returns to starting position when disturb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eutr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all remains in new position when disturb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egative (unstab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all moves away from starting position when disturb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13180" r="0" b="0"/>
          <a:stretch/>
        </p:blipFill>
        <p:spPr>
          <a:xfrm>
            <a:off x="4686480" y="2592360"/>
            <a:ext cx="3848040" cy="30193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76320" y="6324480"/>
            <a:ext cx="906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lenn Fisher                                                           Private Pilot Ground School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Static Stability (continued)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6" name=""/>
          <p:cNvSpPr/>
          <p:nvPr/>
        </p:nvSpPr>
        <p:spPr>
          <a:xfrm>
            <a:off x="76320" y="6324480"/>
            <a:ext cx="906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lenn Fisher                                                           Private Pilot Ground School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228600" y="1371600"/>
            <a:ext cx="2514600" cy="15289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6172200" y="4572000"/>
            <a:ext cx="2590920" cy="15746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3124080" y="2895480"/>
            <a:ext cx="2590920" cy="15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Dynamic Stability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i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scillations decrease in amplitude with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ut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scillations are constant in amplitude with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ga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scillations increase in amplitude with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ove are all types of Positive Static St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6600"/>
                </a:solidFill>
                <a:uFillTx/>
                <a:latin typeface="Arial"/>
                <a:hlinkClick r:id="rId1"/>
              </a:rPr>
              <a:t>Link to animation of dynamic longitudinal st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72000" y="1523880"/>
          <a:ext cx="4241880" cy="4407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0" y="1523880"/>
                    <a:ext cx="4241880" cy="440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" name=""/>
          <p:cNvSpPr/>
          <p:nvPr/>
        </p:nvSpPr>
        <p:spPr>
          <a:xfrm>
            <a:off x="76320" y="6324480"/>
            <a:ext cx="906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lenn Fisher                                                           Private Pilot Ground School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Longitudinal Stability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5720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ability about lateral axi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KA Pitch Stabil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pendent on location of Center of Grav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G too far forw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ble (too sta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G too far a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s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ll Recovery Difficul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S 39 Gripen Crash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S 39 Gripen Crash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4343400" y="3581280"/>
          <a:ext cx="4495680" cy="164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43400" y="3581280"/>
                    <a:ext cx="4495680" cy="164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" name=""/>
          <p:cNvSpPr/>
          <p:nvPr/>
        </p:nvSpPr>
        <p:spPr>
          <a:xfrm>
            <a:off x="76320" y="6324480"/>
            <a:ext cx="906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lenn Fisher                                                           Private Pilot Ground School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705720" y="91440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182880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019920" y="1447920"/>
            <a:ext cx="1523880" cy="838080"/>
          </a:xfrm>
          <a:prstGeom prst="line">
            <a:avLst/>
          </a:prstGeom>
          <a:ln w="190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172200" y="609480"/>
            <a:ext cx="144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itch up mo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095880" y="2666880"/>
            <a:ext cx="18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itch down mo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848720" y="1676520"/>
            <a:ext cx="1447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gle of att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543800" y="2163600"/>
            <a:ext cx="144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6019920" y="1523880"/>
            <a:ext cx="1447560" cy="533520"/>
          </a:xfrm>
          <a:prstGeom prst="line">
            <a:avLst/>
          </a:prstGeom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315200" y="1219320"/>
            <a:ext cx="144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s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4T16:28:10Z</dcterms:created>
  <dc:creator>JL</dc:creator>
  <dc:description/>
  <dc:language>en-US</dc:language>
  <cp:lastModifiedBy>JL</cp:lastModifiedBy>
  <dcterms:modified xsi:type="dcterms:W3CDTF">2010-02-12T00:16:05Z</dcterms:modified>
  <cp:revision>4</cp:revision>
  <dc:subject/>
  <dc:title>Slide 1</dc:title>
</cp:coreProperties>
</file>