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F41-BC36-41F4-8EE2-2B1C1E9CF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51DE-B7E4-4B30-A5B9-D2663DD28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5C8C-475B-47AC-9F62-688F56545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47-7557-4947-B210-C75E15F7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E65-C36B-4A5C-A824-6C4F7EC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BEA-EFF4-4289-84F2-E4501914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7B2-5714-4AB9-91F8-59AD5BB7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DE8D-BECA-4109-92B6-674C0A38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D53-FA4C-4DB6-BCC2-14EBF107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DE13-9F71-4FC7-834D-1BFA2BF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3057-F302-4E01-9317-F3EB9CA3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B060-E03B-49E6-A023-2422EC6E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3FA0-6058-42CD-A97C-38C5DA1E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41F0-30F5-4A3E-A98E-FFA0D3F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FC8-7FA3-4E5E-8F35-DECE5F6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237B-700C-40FE-B91E-D74DE0A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FB8E-C030-43F6-AABC-1801145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C169-63FF-4E66-BC4F-93DAFC41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D2F2-5B77-408B-9520-97EB472C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B43-AFCB-436F-8680-B408AAAB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1D3C-F7A7-4873-8CDB-5C241BD9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198C7-87B7-4FE6-AD76-A4532D7A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0984-069D-4B52-9D57-BAE8192D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217C-B8D7-4A70-A189-11F0E3D2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A28C-C467-4208-AF48-15BD24D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312-F185-41E6-80F6-24F89A75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8C39-13A1-4960-9C92-908EF6BD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7EAC-A925-4929-882F-DA234317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F867-F57B-4469-B704-DC2FA23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05E8-D1B5-45AD-95A7-C963F2A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6AD0-029E-44B3-9701-AF67FD74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E75A-3FAA-4AA8-BBB3-485CD3E1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BD29-915A-4EBF-A8F8-2F5D4DCF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CA4D-1AA8-45E8-BB6F-83D2C323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7002-C1E7-4A2C-9EC9-A7A0BA4D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0636-89F4-43C6-934F-53BC43DD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539-1798-456C-B234-B60FEA0E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368B-0489-4B5B-8450-0EE69539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729A-3BE0-45FE-8FDF-F9038481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AA89-FBC5-4BD2-929C-D77D9A11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71AC-37F9-43FD-AFB4-458B85E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629E-5BC9-47FC-B002-97195A4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68A5-A932-49C5-950A-3D41899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7BD9-C145-45E5-B838-3E26F16B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B2F1-3B3F-4C9B-8C2E-66E628D5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E790-610F-4729-8683-D08F6F23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ACF8-B86A-4DD4-903F-987E6FC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76C-A61A-4FB0-ADAB-9BB707B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B8EA-7A24-4DA8-A2BD-EA1654F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CA9FE-08AD-4522-97A8-14AF3EFF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3C9B7-ADFD-49C6-A675-3A1951E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682FD-E9F9-48C1-A215-7D385FC6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3A9AB-6AB0-4452-B1A3-6D85D4D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259E-A533-4645-8C63-8CE5C29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9566-7579-4C09-8496-A1874D2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74218-7D30-4E52-A6D0-80F6670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7E05-7E4E-41C2-B566-D009E08B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8BD9-EF1C-4485-B688-4E08EFC1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282-4BC2-4394-85DF-458F78D1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0200-4EE9-45BB-B250-97F57EB3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2490-4467-45FE-BD0D-913A83CD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62363-43DD-4E0E-98D3-DFF9B82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5E97-B412-4EC9-B917-56ECFBAF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9518-9482-42BF-81B3-7AEDAE2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B7142-29B0-4E6B-909D-2FCE3D2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0379-6E88-4F40-9BE1-C7F76CF6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8361-5005-4B7B-947B-48716E0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F49D-D3FB-4854-9A8A-E17A0A3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8CC7-2925-4757-A1A6-7E1803AF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BC1-56E4-4B73-A38E-3FAA2FF1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512BD-7F46-4B49-8BD1-051C8467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E0DB-DBAB-45E5-A0C1-81EF63E9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2909C-4366-4364-9ECC-5ECB06DD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B9DF1-52BD-4720-8CE4-6D88E1AD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4A79D-FAFC-4E80-9C44-6968939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4F51-89A5-47D3-A3F7-550A7D24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A027-6E44-4F42-A4B9-5FB44891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EDCE-2BCA-41D0-9B20-7DD674D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3EDA-A77A-417F-839A-FBBCAB81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94A53-D510-4CC2-9EA9-288C323D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2CB-D653-4132-962D-30C8D92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4FA5-F70F-492F-9DCF-002EAFD5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D11F-556B-4850-81D0-6491F29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4EBF-68A6-4DBE-AA69-0AA12B2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DA4D4-21E8-4995-AA1E-FB764696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1812-BD1D-4F28-AC0B-0DD0C0DF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C6F3-6F65-4371-9217-225A3CBE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8705-EEEE-4BBE-BD87-F831ED91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7A6B-EC6A-47A8-B4CB-6ED99CDA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22CE1-C9AC-49B6-BD2B-C1775847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715CB-45D5-4E18-8814-1048872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49C-BF0D-490C-8B0F-C74FADE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F1E09-7B65-438D-A258-0EEA895B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F2AC-D4E3-47B7-A1C7-C255B4C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418A5-527B-44E0-8768-A00713D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B9000-5DA0-4103-898D-AFEFD73A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196C3-9386-48F2-AA5C-5D418577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2779-F7E7-4FE2-895D-6DE26AD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464A9-5CBE-421F-873C-5B3201A2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CC0-6A8A-474A-93B7-ECC949B35B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0709-F0C6-466E-981C-E06B3F0D1FC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7989-FA24-4AFB-AC9C-5444DEFCCD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D28-3AF5-4A7D-982D-BAD7CDD76F4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8C0-E45C-4146-9E6C-28AD7EE4ED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3F97-FCDE-45C2-B7F6-C5DDF6D171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AA3F-6B85-4F4B-86FF-EAC834AC7C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B91A-B07C-44C4-BD55-15A0558B72F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ITFC Ground School</a:t>
            </a:r>
            <a:br>
              <a:rPr sz="2500"/>
            </a:b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all 200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Jason Malone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rcRect l="0" t="0" r="0" b="14761"/>
          <a:stretch/>
        </p:blipFill>
        <p:spPr>
          <a:xfrm>
            <a:off x="5149800" y="1371600"/>
            <a:ext cx="3587760" cy="24382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80520" y="16002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icycle landing gea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ail wheel / Conventiona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lot must log ground instruction and receive endorsement from CFI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3"/>
          <a:srcRect l="0" t="0" r="0" b="6316"/>
          <a:stretch/>
        </p:blipFill>
        <p:spPr>
          <a:xfrm>
            <a:off x="5151600" y="4038480"/>
            <a:ext cx="3574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on-flashing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sition Lights required for Night 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4653000" y="1914480"/>
            <a:ext cx="3962520" cy="402912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00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ump fuel during pre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ll tanks after flight to avoid condensa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429000" cy="6384960"/>
          </a:xfrm>
          <a:prstGeom prst="rect">
            <a:avLst/>
          </a:prstGeom>
          <a:ln w="0">
            <a:noFill/>
          </a:ln>
        </p:spPr>
      </p:pic>
      <p:pic>
        <p:nvPicPr>
          <p:cNvPr id="381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4496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4920" y="1480680"/>
            <a:ext cx="35812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uel/Air Mixtur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ich – High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ean – Low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ean the mixture during climb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rich the mixture during descen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962520" y="2077920"/>
            <a:ext cx="5035320" cy="3332160"/>
          </a:xfrm>
          <a:prstGeom prst="rect">
            <a:avLst/>
          </a:prstGeom>
          <a:ln w="0">
            <a:noFill/>
          </a:ln>
        </p:spPr>
      </p:pic>
      <p:pic>
        <p:nvPicPr>
          <p:cNvPr id="385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276720" y="5715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gh Density Altitude = Low Air Densit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lean the m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rcRect l="0" t="0" r="0" b="10240"/>
          <a:stretch/>
        </p:blipFill>
        <p:spPr>
          <a:xfrm>
            <a:off x="5181480" y="152280"/>
            <a:ext cx="3408480" cy="404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rcRect l="0" t="0" r="0" b="22350"/>
          <a:stretch/>
        </p:blipFill>
        <p:spPr>
          <a:xfrm>
            <a:off x="5105520" y="4267080"/>
            <a:ext cx="3633840" cy="2476800"/>
          </a:xfrm>
          <a:prstGeom prst="rect">
            <a:avLst/>
          </a:prstGeom>
          <a:ln w="0">
            <a:noFill/>
          </a:ln>
        </p:spPr>
      </p:pic>
      <p:pic>
        <p:nvPicPr>
          <p:cNvPr id="389" name="Title 3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4"/>
          <p:cNvSpPr/>
          <p:nvPr/>
        </p:nvSpPr>
        <p:spPr>
          <a:xfrm>
            <a:off x="304920" y="144792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4"/>
          <p:cNvSpPr/>
          <p:nvPr/>
        </p:nvSpPr>
        <p:spPr>
          <a:xfrm>
            <a:off x="15228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PM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gine R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rb. Heat Enriches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Carb. Heat at low pow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Carb. Ice present, carb. heat will lead to RPM decrease, then RPM increase as ice m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ciprocating Eng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 Strok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ak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xhaust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3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5477040" y="1228680"/>
            <a:ext cx="33620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04920" y="1481040"/>
            <a:ext cx="44956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Detona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Explosive Combustion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Occurs when mixture too lean or fuel grade too low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If detonation is suspected, try enriching the mixture or increasing airspeed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Pre-igni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caused by hot spots in cylinder and/or cylinder damage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0" t="0" r="0" b="8158"/>
          <a:stretch/>
        </p:blipFill>
        <p:spPr>
          <a:xfrm>
            <a:off x="4952880" y="144792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397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0680"/>
            <a:ext cx="4038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netos provide self sufficient spark to cylinder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. Check during runup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Engine will run with electrical system off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wo spark plugs per cylinder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4648320" cy="270036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4786200" y="1428840"/>
            <a:ext cx="3810240" cy="2000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4"/>
          <a:srcRect l="3577" t="0" r="0" b="0"/>
          <a:stretch/>
        </p:blipFill>
        <p:spPr>
          <a:xfrm>
            <a:off x="1447920" y="4724280"/>
            <a:ext cx="1566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068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Functions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ubrication of the engine’s moving par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oling of the engine by reducing fri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Lucida Sans Unicode"/>
              </a:rPr>
              <a:t>Removing heat from the cylinder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ding a seal between the cylinder walls and pist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arrying away contamina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4648320" y="3902040"/>
            <a:ext cx="4038480" cy="26510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4"/>
          <p:cNvSpPr/>
          <p:nvPr/>
        </p:nvSpPr>
        <p:spPr>
          <a:xfrm>
            <a:off x="4419720" y="1447920"/>
            <a:ext cx="4495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lways check oil pressure immediately after starting 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itor oil temperature/pressure during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05200" cy="2819520"/>
          </a:xfrm>
          <a:prstGeom prst="rect">
            <a:avLst/>
          </a:prstGeom>
          <a:ln w="0">
            <a:noFill/>
          </a:ln>
        </p:spPr>
      </p:pic>
      <p:pic>
        <p:nvPicPr>
          <p:cNvPr id="408" name="Title 3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867040" cy="1943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xed Pitch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RP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nstant Speed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power output (manifold pressure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Propell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 regulates engine RP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in turn regulates propeller RPM via automatic pitch chang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34:42Z</dcterms:created>
  <dc:creator> JasonM</dc:creator>
  <dc:description/>
  <dc:language>en-US</dc:language>
  <cp:lastModifiedBy> JasonM</cp:lastModifiedBy>
  <dcterms:modified xsi:type="dcterms:W3CDTF">2009-11-12T03:17:37Z</dcterms:modified>
  <cp:revision>27</cp:revision>
  <dc:subject/>
  <dc:title>Slide 1</dc:title>
</cp:coreProperties>
</file>