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280-33D0-4575-A648-ED52C2F3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116-5E06-4A09-91EB-5A924F4D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CE9-5A60-420A-AA9D-2880D094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306-4B7E-4C07-A311-C93F4384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7C6-97BB-402D-A865-37361BBE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4B9-A630-4641-BC70-34EC2CF9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BCB-4D79-4026-AD65-B0A0615C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A59-01D0-44E7-A011-0E9ECA29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F2B-7C81-48F1-8B8C-DE028B38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086-7694-4687-8D64-4C8AF110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6B1-B1F2-47A1-8666-DC8819A2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0D2-49C4-461E-8846-1683217A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DE70-3206-4018-AB6C-07DE2A415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x Airplane Endo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ractable landing gear and   controllable-pitch prop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d log groun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igh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 endorsement certifying proficiency in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-performance Endo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 200 horsepower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d log groun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igh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 endorsement certifying proficiency in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118584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3166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plan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eronautical knowled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rea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isfactory completion of practica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876920" y="1371600"/>
            <a:ext cx="4114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engin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eronautical knowled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rea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isfactory completion of practica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3294000" cy="2280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35812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Pilot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Pilot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al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 must be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0 total hours of fligh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hours of pilot-in-comma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 hours of cross country pilot-in-comma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 hours of fligh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training in a complex air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instrumen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day VFR cross country of at least 2 hours and 100nm straight-lin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night VFR cross country of at least 2 hours and 100nm straight-lin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solo f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cross country of at least 300nm, a 250nm straight-line distance, and landings at a minimum of thre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hours of night VFR, including 10 takeoffs and 10 lan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6529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3-18T23:43:49Z</dcterms:modified>
  <cp:revision>10</cp:revision>
  <dc:subject/>
  <dc:title>Slide 1</dc:title>
</cp:coreProperties>
</file>