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AEB-5F0D-4915-A2A2-63839852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AEA-5229-4902-B9B3-B6B1999D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E4B-5AAC-4696-8C09-57719FA3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111-1EA8-48CA-B2F3-482D5F2F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E92-F892-45D9-980C-B81D50FB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41B-EE92-4B9D-8887-0FA16141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840-AF6C-42AD-8B8B-D952C597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3FA-2396-4ACB-BE67-092B319F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A36-2F54-4BCD-A932-736E5EE3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2CD-5F0C-4486-AD02-93AC399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B2C-50B3-4AAE-B22C-C2953E3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581-A340-4A12-908C-FB4526D1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258B-40F6-4AAD-9504-714150B47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 I Become 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rtificated Flight Instruc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vileges and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 students towards a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e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ment (with instrument rating on instructor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FI (requires 24 months and 200 hours as C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engine (with multi on instructor cert. and 5 hours i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P (with ATP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 student pilots for solo privi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ddition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ight re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tions to new air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quirement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ment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ledge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eronautical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amentals of Instru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al Test with FAA Inspector (first time only) or Exam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ximat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hours of groun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hours of flight training in a complex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o Private and Commercial Certificate while t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or acts as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 training (e.g. Cessna 1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tarting tr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proficient at commercial maneu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omfortable flying from right s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knowledge tests out of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need an instructor sign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a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is knowledge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ractical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2 hours of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than 1 hour of 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 material and know where to look up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fident but not co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pector will ask trick questions or say incorrec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t mistakes and look up what you’re unsur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3-18T23:45:31Z</dcterms:modified>
  <cp:revision>15</cp:revision>
  <dc:subject/>
  <dc:title>Slide 1</dc:title>
</cp:coreProperties>
</file>