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A71-E077-431B-8FE8-C9665AE3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310-840A-4865-A889-CA55A3CB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9B2-5870-43BB-A2EA-B89EBA88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05D-6B4C-407E-8788-8F764AF4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B4D-5738-4E24-92AB-381AB433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1D4-DFCC-43F7-AA40-054F2D53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230-547A-4E24-BCE8-A7757C1A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625-A805-497D-B592-02D8654E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681-A69E-49B9-8AE2-B8C924FD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FFD-4651-4E8E-ADCF-0B051208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CC5-ACE2-4523-9A3C-09E762E5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3FE-7441-4F89-9415-516712EE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EBF2-EDA7-40BB-9E2F-7D93F2C13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itle 5"/>
          <p:cNvGrpSpPr/>
          <p:nvPr/>
        </p:nvGrpSpPr>
        <p:grpSpPr>
          <a:xfrm>
            <a:off x="2401920" y="3164040"/>
            <a:ext cx="6761160" cy="1682640"/>
            <a:chOff x="2401920" y="3164040"/>
            <a:chExt cx="6761160" cy="1682640"/>
          </a:xfrm>
        </p:grpSpPr>
        <p:pic>
          <p:nvPicPr>
            <p:cNvPr id="43" name="Title 5" descr=""/>
            <p:cNvPicPr/>
            <p:nvPr/>
          </p:nvPicPr>
          <p:blipFill>
            <a:blip r:embed="rId1"/>
            <a:stretch/>
          </p:blipFill>
          <p:spPr>
            <a:xfrm>
              <a:off x="2401920" y="3164040"/>
              <a:ext cx="676116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438280" y="3200400"/>
              <a:ext cx="65534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ffffff"/>
                  </a:solidFill>
                  <a:latin typeface="Arial"/>
                </a:rPr>
                <a:t>Flying in the U.S.</a:t>
              </a:r>
              <a:br>
                <a:rPr sz="4400"/>
              </a:br>
              <a:r>
                <a:rPr b="0" lang="fr-FR" sz="4400" spc="-1" strike="noStrike">
                  <a:solidFill>
                    <a:srgbClr val="ffffff"/>
                  </a:solidFill>
                  <a:latin typeface="Arial"/>
                </a:rPr>
                <a:t>for non-U.S. citizen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8" descr="tsa_logo.bmp"/>
          <p:cNvPicPr/>
          <p:nvPr/>
        </p:nvPicPr>
        <p:blipFill>
          <a:blip r:embed="rId2"/>
          <a:stretch/>
        </p:blipFill>
        <p:spPr>
          <a:xfrm>
            <a:off x="743040" y="987480"/>
            <a:ext cx="3597120" cy="23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AA_Logo_Color.gif"/>
          <p:cNvPicPr/>
          <p:nvPr/>
        </p:nvPicPr>
        <p:blipFill>
          <a:blip r:embed="rId3"/>
          <a:stretch/>
        </p:blipFill>
        <p:spPr>
          <a:xfrm>
            <a:off x="6394320" y="401760"/>
            <a:ext cx="2359080" cy="3043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09480" y="518148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ining in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ign license con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Image 1.png"/>
          <p:cNvPicPr/>
          <p:nvPr/>
        </p:nvPicPr>
        <p:blipFill>
          <a:blip r:embed="rId4"/>
          <a:stretch/>
        </p:blipFill>
        <p:spPr>
          <a:xfrm>
            <a:off x="609480" y="3505320"/>
            <a:ext cx="24004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 in the U.S. – “TSA Ru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ships, balloons, and gliders are ex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review and proficiency check, or tailwheel, high-performance, and complex endorsements are ex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pilot must h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visit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1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2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for flight c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3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—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4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for recurrent training if you are current and qualified in the aircraft you want to train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ial website: 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http://www.flightschoolcandidates.gov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SP.Help@dhs.gov  — Phone (571) 227-45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http://www.aopa.org/tsa_rule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ts of information in pla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 rot="16200000">
            <a:off x="7993080" y="56955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: aop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 in the U.S. – “TSA Rule”</a:t>
            </a:r>
            <a:br>
              <a:rPr sz="44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co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egory 3 – Training for sport, recreational, and private pilot certificates, or instrument and multiengine ratings, aircrafts under 12,500 lb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or/school registers with TS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lightschoolcandidates.gov/fsindex.htm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resents current valid pass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registers and applies for training with TS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http://www.flightschoolcandidates.gov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or confirms student’s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ays TSA $130 processing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preliminary decision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submits fingerprints to TSA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300" spc="-1" strike="noStrike">
                <a:solidFill>
                  <a:srgbClr val="bfbfbf"/>
                </a:solidFill>
                <a:latin typeface="Arial"/>
              </a:rPr>
              <a:t>http://www.tsc-csc.com/printoffices/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for list of locations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sest one Providence airport, business hours; or Terryville, CT (anytime with appointment) –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confirms receipt of fingerprints and fee and allows flight training to beg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hoto taken on first day of flight training and sent to T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notifies instructor if training needs to st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ining must start within 6 months of approval and be completed within 1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gerprinting is once and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 rot="16200000">
            <a:off x="7993080" y="56955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: aop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ting from a foreign licen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cense needs to be from International Civil Aviation Org. (ICAO)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for background check, fingerprinting, TSA registration, or oth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for U.S. medical certificate (U.S. medical ca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 u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to prove English proficiency for radio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to take FAA (written) knowledge te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xcept for IFR: instrument foreign pilot (IFP) knowledge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A license will be dependant on the the foreign license and medic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you only need to keep one license and medical curr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est from FAA a verification of the authenticity and currency of your foreign license</a:t>
            </a:r>
            <a:br>
              <a:rPr sz="1400"/>
            </a:b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aa.gov/licenses_certificates/airmen_certification/foreign_license_verificati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 and Australia pilots need to contact their civil aviation authority prior to requesting the ve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A will send you a letter once this is complete (&lt; 3 months) and will mail a copy to the FSDO you have cho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l out FAA form 8710-1 –</a:t>
            </a: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 http://forms.faa.gov/forms/faa8710-1a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then hav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 month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visit the FSDO with all your documents and FAA form to get your FAA “restricted” certificate issued – call ahead of time</a:t>
            </a:r>
            <a:br>
              <a:rPr sz="1400"/>
            </a:b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aa.gov/about/office_org/field_offices/fsdo/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exington, MA, near KB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reign license of any level (private, commercial, ATP) will be converted into FAA private only (except Canada, by taking a knowledge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instructors/FBOs tend to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ke converted licens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 rot="16200000">
            <a:off x="8020080" y="5778720"/>
            <a:ext cx="18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fbfbf"/>
                </a:solidFill>
                <a:latin typeface="Arial"/>
              </a:rPr>
              <a:t>Sources: FAA, AO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2:21:28Z</dcterms:created>
  <dc:creator> </dc:creator>
  <dc:description/>
  <dc:language>en-US</dc:language>
  <cp:lastModifiedBy>Jeremy Katz</cp:lastModifiedBy>
  <dcterms:modified xsi:type="dcterms:W3CDTF">2008-03-19T02:45:25Z</dcterms:modified>
  <cp:revision>31</cp:revision>
  <dc:subject/>
  <dc:title>Slide 1</dc:title>
</cp:coreProperties>
</file>