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246-28B2-4A9F-A723-680CD2F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51A-813E-42DD-A5B0-9EB2A335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B40-D2CE-4B82-AEB7-9F6879B1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A7A-00DE-4DED-BFA8-6F3DB88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D25-1F1D-484B-A594-A6A67D8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B7A-F0D5-41B5-8A45-A87169A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8EE-2324-449E-A2EF-81B1D709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FF9-DE40-49D2-ABA7-97112C9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AE3-D3BE-4560-A94F-FCF9F5C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1EC-130C-49BF-A5EF-9770567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BCA-ECD2-477A-BB19-5E40B73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8CD-DC29-4638-A5C6-6B78DA8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A96-FE2F-498D-9142-D48CA897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ro.aerobaticsweb.org/images/super_d2_963x640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batic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and Chec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10-15 hours of dual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wheel instruction and endorsement is usually a part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se aircraf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from abnormal attitudes and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4496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4-15T20:44:26Z</dcterms:modified>
  <cp:revision>12</cp:revision>
  <dc:subject/>
  <dc:title>Slide 1</dc:title>
</cp:coreProperties>
</file>