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FA5-3BE7-447D-8891-0A53CA8E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716-FAB7-441A-8501-076EB2C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469-3208-48E0-985D-E010D5F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786-9056-49DB-9880-2894F05D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4FC-1202-49E6-A0EC-9F151FF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08A-7ABD-4035-94A7-F5DCC33A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CE7-EA07-402B-AB7D-3965035F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75D-A61F-4675-867D-12F614F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199-DFD4-4450-A5A0-33BB610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CD3-7C21-45A0-B4D1-951F804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70B-6666-475E-8315-EB4F4C2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EA9-7293-4B36-9132-4E36BC3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B029-C68B-48DA-92AD-C653D3AD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362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15238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51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34Z</dcterms:modified>
  <cp:revision>5</cp:revision>
  <dc:subject/>
  <dc:title>PowerPoint Presentation</dc:title>
</cp:coreProperties>
</file>