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721-E613-4309-8164-04FD5DCA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356-4E0B-4702-922C-3F98A2AF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15F-AA86-4A9C-91B8-EE8876D8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17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065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17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065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D48-738C-4EDE-BF8D-72AA7A32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87F-CD8D-42FB-AF2D-13AC3C5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BA1-7418-4342-8756-599A8D9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FB5-492F-406C-A40B-2B5F15E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75B-80B6-47C2-BE6A-71AE167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812520"/>
            <a:ext cx="124365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66C-8ACD-42E5-B0BF-AFC80F3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168-8F32-473D-A62B-E548A80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253-1C94-4207-9890-E68A045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0B2-E375-4B32-815A-68E0DC6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 fontScale="90000"/>
          </a:bodyPr>
          <a:p>
            <a:pPr marL="458640" indent="-45864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880" indent="-3816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8560" indent="-30528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214020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656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8331120"/>
            <a:ext cx="463248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1B119F6-C80F-4D88-9447-CBB5E2FB1284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1360" y="406440"/>
            <a:ext cx="1219212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 algn="ctr">
              <a:lnSpc>
                <a:spcPct val="100000"/>
              </a:lnSpc>
              <a:spcBef>
                <a:spcPts val="443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440" y="193032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440" y="254016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149640"/>
            <a:ext cx="3414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978440"/>
            <a:ext cx="4510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759120"/>
            <a:ext cx="5243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368960"/>
            <a:ext cx="4144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0" y="2008080"/>
            <a:ext cx="195084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" y="6702480"/>
            <a:ext cx="755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7412040"/>
            <a:ext cx="9264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8123400"/>
            <a:ext cx="658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8520" y="3325680"/>
            <a:ext cx="5121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8458200" y="2209680"/>
            <a:ext cx="36576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11Z</dcterms:modified>
  <cp:revision>6</cp:revision>
  <dc:subject/>
  <dc:title>PowerPoint Presentation</dc:title>
</cp:coreProperties>
</file>